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png" ContentType="image/png"/>
  <Override PartName="/ppt/media/image9.jpeg" ContentType="image/jpeg"/>
  <Override PartName="/ppt/media/image1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91897-F2D1-40F5-A535-371A31D2154C}" type="slidenum"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B3F9C-4F56-4147-830D-1E76AC7F2B4F}" type="slidenum"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fld id="{93559ADC-F816-42A5-84FC-EE55B2B533F6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480A-DF7C-4EB4-9E48-8E90CD4CA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762120" y="413064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B63C-DA77-4F37-922F-FA3364D5F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94028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89DB-FBC3-4876-A71A-79B41C591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51900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27552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76212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51900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27552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946B-3002-46CF-87E6-8F6FEFCC9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CD66C-40BF-4313-97B4-9E446C098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77F9D-2A98-46D6-B646-261E4AE3E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79A35-3540-479A-ABD8-07AF22CDF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D60BC-894C-45C2-9E1A-ED65E2544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C141A-28C2-4FF5-9069-668562131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995C5-E32D-49DD-A012-8AAAB4107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7CCA6-4973-4B14-9280-9907B8E9B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000C-3850-4D6F-A932-77E88FFFD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94028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3AF41-A322-4008-BE7C-A3CD1A806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95A0D-A832-40FA-A2FE-1B8559153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762120" y="413064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622A4-05A1-4772-8279-FC47838CB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94028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01991-667C-4E3B-9ECA-0CBA05BED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1900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27552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76212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1900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27552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EE33C-C4FB-471B-9270-F3BEF226B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CFDD-C2B5-4A84-9BDC-731E9FB84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682F-6F17-4D92-8B0F-968404D7B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A9DD-6684-4CF7-A83F-8F2CEAD45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CAC2-6CA3-4608-A2AF-8D3C185BD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97AC-25F6-4E42-9D94-C753542EA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94028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43A4-9C3C-43BC-9861-FDF12DBB6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F003-07BA-44F1-BA6A-A29E8B961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body"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ftr" idx="2"/>
          </p:nvPr>
        </p:nvSpPr>
        <p:spPr>
          <a:xfrm>
            <a:off x="4038120" y="6324120"/>
            <a:ext cx="487692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99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754A6-29E4-4777-8478-D0337EE2EB16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5B545-A9D1-4AAF-B5D3-0B4D9EB2C74A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5000"/>
              <a:buFont typeface="Wingding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sjzcdc.com/admin/upfiles/200992076624593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partment of Microbiology, Harbin Medical University</a:t>
            </a:r>
          </a:p>
        </p:txBody>
      </p:sp>
    </p:spTree>
  </p:cSld>
  <p:transition spd="slow"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68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Arial"/>
              </a:rPr>
              <a:t>（</a:t>
            </a:r>
            <a:r>
              <a:rPr b="1" lang="zh-CN" sz="4000" spc="-1" strike="noStrike">
                <a:solidFill>
                  <a:srgbClr val="ff99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ff9900"/>
                </a:solidFill>
                <a:latin typeface="Arial"/>
              </a:rPr>
              <a:t>）免疫性</a:t>
            </a:r>
            <a:br>
              <a:rPr sz="4000"/>
            </a:b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47560" y="2514600"/>
            <a:ext cx="6933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免疫期短，不稳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免疫主要是消化道黏膜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Ig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partment of Microbiology, Harbin Medical University</a:t>
            </a:r>
          </a:p>
        </p:txBody>
      </p:sp>
    </p:spTree>
  </p:cSld>
  <p:transition spd="slow"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0" lang="zh-CN" sz="4400" spc="-1" strike="noStrike">
                <a:solidFill>
                  <a:srgbClr val="ff9900"/>
                </a:solidFill>
                <a:latin typeface="Arial"/>
              </a:rPr>
              <a:t>（四）微生物学检查法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66680" y="2666520"/>
            <a:ext cx="32004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标本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离培养与鉴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毒力试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快速诊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免疫荧光菌球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协同凝集试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胶乳凝集试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PCR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杂交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4648320" y="2057400"/>
            <a:ext cx="4495680" cy="336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partment of Microbiology, Harbin Medical University</a:t>
            </a:r>
          </a:p>
        </p:txBody>
      </p:sp>
    </p:spTree>
  </p:cSld>
  <p:transition spd="slow"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9"/>
          <p:cNvSpPr/>
          <p:nvPr/>
        </p:nvSpPr>
        <p:spPr>
          <a:xfrm>
            <a:off x="685800" y="838080"/>
            <a:ext cx="344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黑体"/>
              </a:rPr>
              <a:t>微生物学检查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Rectangle 10"/>
          <p:cNvSpPr/>
          <p:nvPr/>
        </p:nvSpPr>
        <p:spPr>
          <a:xfrm>
            <a:off x="1066680" y="2057400"/>
            <a:ext cx="540072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  <a:ea typeface="黑体"/>
              </a:rPr>
              <a:t>及时送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  <a:ea typeface="黑体"/>
              </a:rPr>
              <a:t>/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  <a:ea typeface="黑体"/>
              </a:rPr>
              <a:t>暂用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  <a:ea typeface="黑体"/>
              </a:rPr>
              <a:t>30%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  <a:ea typeface="黑体"/>
              </a:rPr>
              <a:t>甘油缓冲盐水保存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Rectangle 11"/>
          <p:cNvSpPr/>
          <p:nvPr/>
        </p:nvSpPr>
        <p:spPr>
          <a:xfrm>
            <a:off x="3505320" y="3581280"/>
            <a:ext cx="462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60000"/>
                </a:solidFill>
                <a:latin typeface="Arial"/>
                <a:ea typeface="黑体"/>
              </a:rPr>
              <a:t>SS</a:t>
            </a:r>
            <a:r>
              <a:rPr b="1" lang="zh-CN" sz="2000" spc="-1" strike="noStrike">
                <a:solidFill>
                  <a:srgbClr val="f60000"/>
                </a:solidFill>
                <a:latin typeface="Arial"/>
                <a:ea typeface="黑体"/>
              </a:rPr>
              <a:t>平板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  <a:ea typeface="黑体"/>
              </a:rPr>
              <a:t>（无色透明小菌落</a:t>
            </a:r>
            <a:r>
              <a:rPr b="1" lang="zh-CN" sz="2000" spc="-1" strike="noStrike">
                <a:solidFill>
                  <a:srgbClr val="000066"/>
                </a:solidFill>
                <a:latin typeface="Arial"/>
                <a:ea typeface="黑体"/>
              </a:rPr>
              <a:t>）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Rectangle 12"/>
          <p:cNvSpPr/>
          <p:nvPr/>
        </p:nvSpPr>
        <p:spPr>
          <a:xfrm>
            <a:off x="3581280" y="5105520"/>
            <a:ext cx="42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血清学反应（玻片凝集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Rectangle 13"/>
          <p:cNvSpPr/>
          <p:nvPr/>
        </p:nvSpPr>
        <p:spPr>
          <a:xfrm>
            <a:off x="3657600" y="5791320"/>
            <a:ext cx="193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Arial"/>
                <a:ea typeface="黑体"/>
              </a:rPr>
              <a:t>毒力试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AutoShape 14"/>
          <p:cNvSpPr/>
          <p:nvPr/>
        </p:nvSpPr>
        <p:spPr>
          <a:xfrm>
            <a:off x="3124080" y="2971800"/>
            <a:ext cx="1760760" cy="533520"/>
          </a:xfrm>
          <a:prstGeom prst="wedgeRoundRectCallout">
            <a:avLst>
              <a:gd name="adj1" fmla="val -27185"/>
              <a:gd name="adj2" fmla="val -155060"/>
              <a:gd name="adj3" fmla="val 16667"/>
            </a:avLst>
          </a:prstGeom>
          <a:solidFill>
            <a:srgbClr val="ffff00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  <a:ea typeface="黑体"/>
              </a:rPr>
              <a:t>分离培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AutoShape 15"/>
          <p:cNvSpPr/>
          <p:nvPr/>
        </p:nvSpPr>
        <p:spPr>
          <a:xfrm>
            <a:off x="3886200" y="1447920"/>
            <a:ext cx="2843280" cy="533160"/>
          </a:xfrm>
          <a:prstGeom prst="wedgeRoundRectCallout">
            <a:avLst>
              <a:gd name="adj1" fmla="val -70435"/>
              <a:gd name="adj2" fmla="val 33629"/>
              <a:gd name="adj3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  <a:ea typeface="黑体"/>
              </a:rPr>
              <a:t>新鲜脓血便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  <a:ea typeface="黑体"/>
              </a:rPr>
              <a:t>/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  <a:ea typeface="黑体"/>
              </a:rPr>
              <a:t>肛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Rectangle 16"/>
          <p:cNvSpPr/>
          <p:nvPr/>
        </p:nvSpPr>
        <p:spPr>
          <a:xfrm>
            <a:off x="3581280" y="4419720"/>
            <a:ext cx="420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Arial"/>
                <a:ea typeface="黑体"/>
              </a:rPr>
              <a:t>双糖培养基（生化反应）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Line 17"/>
          <p:cNvSpPr/>
          <p:nvPr/>
        </p:nvSpPr>
        <p:spPr>
          <a:xfrm>
            <a:off x="3591000" y="3548160"/>
            <a:ext cx="0" cy="53316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Line 18"/>
          <p:cNvSpPr/>
          <p:nvPr/>
        </p:nvSpPr>
        <p:spPr>
          <a:xfrm>
            <a:off x="3591000" y="4309920"/>
            <a:ext cx="0" cy="53352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Line 19"/>
          <p:cNvSpPr/>
          <p:nvPr/>
        </p:nvSpPr>
        <p:spPr>
          <a:xfrm>
            <a:off x="3591000" y="5072040"/>
            <a:ext cx="0" cy="53352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Line 20"/>
          <p:cNvSpPr/>
          <p:nvPr/>
        </p:nvSpPr>
        <p:spPr>
          <a:xfrm>
            <a:off x="3591000" y="5757840"/>
            <a:ext cx="0" cy="53352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AutoShape 25"/>
          <p:cNvSpPr/>
          <p:nvPr/>
        </p:nvSpPr>
        <p:spPr>
          <a:xfrm>
            <a:off x="1295280" y="3124080"/>
            <a:ext cx="1760760" cy="533520"/>
          </a:xfrm>
          <a:prstGeom prst="wedgeRoundRectCallout">
            <a:avLst>
              <a:gd name="adj1" fmla="val 47925"/>
              <a:gd name="adj2" fmla="val -160416"/>
              <a:gd name="adj3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  <a:ea typeface="黑体"/>
              </a:rPr>
              <a:t>快速诊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Line 26"/>
          <p:cNvSpPr/>
          <p:nvPr/>
        </p:nvSpPr>
        <p:spPr>
          <a:xfrm>
            <a:off x="1828800" y="3657600"/>
            <a:ext cx="0" cy="68580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Text Box 27"/>
          <p:cNvSpPr/>
          <p:nvPr/>
        </p:nvSpPr>
        <p:spPr>
          <a:xfrm>
            <a:off x="990720" y="4419720"/>
            <a:ext cx="257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  <a:ea typeface="黑体"/>
              </a:rPr>
              <a:t>荧光菌球试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xt Box 28"/>
          <p:cNvSpPr/>
          <p:nvPr/>
        </p:nvSpPr>
        <p:spPr>
          <a:xfrm>
            <a:off x="990720" y="502920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  <a:ea typeface="黑体"/>
              </a:rPr>
              <a:t>协同凝集试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77120" y="2286000"/>
            <a:ext cx="2280960" cy="2438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partment of Microbiology, Harbin Medical University</a:t>
            </a:r>
          </a:p>
        </p:txBody>
      </p:sp>
    </p:spTree>
  </p:cSld>
  <p:transition spd="slow"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00"/>
                </a:solidFill>
                <a:latin typeface="Arial"/>
              </a:rPr>
              <a:t>（五）防治原则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419720" y="1676520"/>
            <a:ext cx="4190760" cy="314316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838080" y="4191120"/>
            <a:ext cx="807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.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三管一灭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口服减毒活菌苗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早发现、早隔离和早治疗，查出带菌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药物敏感试验指导治疗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partment of Microbiology, Harbin Medical University</a:t>
            </a:r>
          </a:p>
        </p:txBody>
      </p:sp>
    </p:spTree>
  </p:cSld>
  <p:transition spd="slow"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1142640"/>
            <a:ext cx="4038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Arial"/>
              </a:rPr>
              <a:t>小结：志贺菌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66320" y="2895120"/>
            <a:ext cx="4038840" cy="22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生物学性状特点（分类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致病物质及所致疾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微生物学检查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志贺菌的防治原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5105520" y="1828800"/>
            <a:ext cx="3055680" cy="418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相似的形态结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简单的培养条件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活泼的生化反应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复杂的抗原结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较弱的抵抗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易变的性状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partment of Microbiology, Harbin Medical University</a:t>
            </a:r>
          </a:p>
        </p:txBody>
      </p:sp>
    </p:spTree>
  </p:cSld>
  <p:transition spd="slow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685440" y="1066320"/>
            <a:ext cx="80773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00"/>
                </a:solidFill>
                <a:latin typeface="Arial"/>
              </a:rPr>
              <a:t>三、志贺菌属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ff9900"/>
                </a:solidFill>
                <a:latin typeface="Arial"/>
              </a:rPr>
              <a:t>Shigella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295280" y="29718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志贺菌属是人类细菌性痢疾的病原菌，通称痢疾杆菌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1447920" y="3886200"/>
            <a:ext cx="7010280" cy="1828800"/>
            <a:chOff x="1447920" y="3886200"/>
            <a:chExt cx="7010280" cy="1828800"/>
          </a:xfrm>
        </p:grpSpPr>
        <p:sp>
          <p:nvSpPr>
            <p:cNvPr id="159" name=""/>
            <p:cNvSpPr/>
            <p:nvPr/>
          </p:nvSpPr>
          <p:spPr>
            <a:xfrm>
              <a:off x="2133720" y="4038480"/>
              <a:ext cx="304560" cy="167652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43560 h 1676520"/>
                <a:gd name="textAreaBottom" fmla="*/ 1632960 h 167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438280" y="3886200"/>
              <a:ext cx="221004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痢疾志贺菌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福氏志贺菌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鲍氏志贺菌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宋内志贺菌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447920" y="3962520"/>
              <a:ext cx="838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四个菌群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95680" y="3886200"/>
              <a:ext cx="320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----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致病力最强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572000" y="4572000"/>
              <a:ext cx="76212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4572000" y="5105520"/>
              <a:ext cx="76212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257800" y="4800600"/>
              <a:ext cx="320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我国感染最常见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1219320"/>
            <a:ext cx="48006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00"/>
                </a:solidFill>
                <a:latin typeface="Arial"/>
              </a:rPr>
              <a:t>（一）生物学性状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040" y="2057040"/>
            <a:ext cx="52578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形态染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8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杆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无鞭毛，无荚膜， 有菌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6781680" y="990720"/>
            <a:ext cx="1667160" cy="28191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6629400" y="4114800"/>
            <a:ext cx="2286000" cy="20574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1752480" y="4114800"/>
            <a:ext cx="2362320" cy="21049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4267080" y="4191120"/>
            <a:ext cx="2286000" cy="2074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partment of Microbiology, Harbin Medical University</a:t>
            </a:r>
          </a:p>
        </p:txBody>
      </p:sp>
    </p:spTree>
  </p:cSld>
  <p:transition spd="slow"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4724640" cy="30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ff9900"/>
                </a:solidFill>
                <a:latin typeface="Arial"/>
              </a:rPr>
              <a:t>培养及生化反应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营养要求不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分解乳糖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ffff"/>
              </a:buClr>
              <a:buSzPct val="65000"/>
              <a:buFont typeface="Wingding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ss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选择培养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ffff"/>
              </a:buClr>
              <a:buSzPct val="65000"/>
              <a:buFont typeface="Wingding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克氏双糖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6248520" y="2133720"/>
          <a:ext cx="1801800" cy="396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48520" y="2133720"/>
                    <a:ext cx="180180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partment of Microbiology, Harbin Medical University</a:t>
            </a:r>
          </a:p>
        </p:txBody>
      </p:sp>
    </p:spTree>
  </p:cSld>
  <p:transition spd="slow"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30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00"/>
                </a:solidFill>
                <a:latin typeface="Arial"/>
              </a:rPr>
              <a:t>3.</a:t>
            </a:r>
            <a:r>
              <a:rPr b="0" lang="zh-CN" sz="4400" spc="-1" strike="noStrike">
                <a:solidFill>
                  <a:srgbClr val="ff9900"/>
                </a:solidFill>
                <a:latin typeface="Arial"/>
              </a:rPr>
              <a:t>抗原构造及分类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抗原组成，</a:t>
            </a:r>
            <a:r>
              <a:rPr b="1" lang="zh-CN" sz="3200" spc="-1" strike="noStrike">
                <a:solidFill>
                  <a:srgbClr val="ffc000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ffc000"/>
                </a:solidFill>
                <a:latin typeface="Arial"/>
              </a:rPr>
              <a:t>抗原为分类依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类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菌种        群        型                   亚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痢疾志贺菌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  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0          8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8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8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福氏志贺菌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  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x      1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a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变型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3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3b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3c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4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4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鲍氏志贺菌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             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8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宋内志贺菌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D            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143000" y="2819520"/>
            <a:ext cx="723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66680" y="3200400"/>
            <a:ext cx="731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14400" y="5257800"/>
            <a:ext cx="739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partment of Microbiology, Harbin Medical University</a:t>
            </a:r>
          </a:p>
        </p:txBody>
      </p:sp>
    </p:spTree>
  </p:cSld>
  <p:transition spd="slow"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837720" y="2743200"/>
            <a:ext cx="815364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比其他肠道杆菌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对酸和一般消毒剂敏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106668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00"/>
                </a:solidFill>
                <a:latin typeface="Arial"/>
              </a:rPr>
              <a:t>4.</a:t>
            </a:r>
            <a:r>
              <a:rPr b="0" lang="zh-CN" sz="4400" spc="-1" strike="noStrike">
                <a:solidFill>
                  <a:srgbClr val="ff9900"/>
                </a:solidFill>
                <a:latin typeface="Arial"/>
              </a:rPr>
              <a:t>抵抗力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partment of Microbiology, Harbin Medical University</a:t>
            </a:r>
          </a:p>
        </p:txBody>
      </p:sp>
    </p:spTree>
  </p:cSld>
  <p:transition spd="slow"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1980720"/>
            <a:ext cx="23623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致病物质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320" y="2819520"/>
            <a:ext cx="25909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侵袭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内毒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外毒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05320" y="2286000"/>
            <a:ext cx="5638680" cy="386388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侵袭力：</a:t>
            </a:r>
            <a:r>
              <a:rPr b="1" lang="zh-CN" sz="1800" spc="-1" strike="noStrike">
                <a:solidFill>
                  <a:srgbClr val="ff3300"/>
                </a:solidFill>
                <a:latin typeface="黑体"/>
                <a:ea typeface="黑体"/>
              </a:rPr>
              <a:t>菌毛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，可黏附于回肠末端和结肠黏膜的上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皮细胞。细菌侵入血流罕见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内毒素：所有毒株均有强烈的内毒素。内毒素作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用于肠黏膜，使其通透性增高，进一步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促进对内毒素的吸收，引起</a:t>
            </a:r>
            <a:r>
              <a:rPr b="1" lang="zh-CN" sz="18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发热、神志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黑体"/>
                <a:ea typeface="黑体"/>
              </a:rPr>
              <a:t>        </a:t>
            </a:r>
            <a:r>
              <a:rPr b="1" lang="zh-CN" sz="18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障碍、甚至中毒性休克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等一系列症状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还可导致</a:t>
            </a:r>
            <a:r>
              <a:rPr b="1" lang="zh-CN" sz="1800" spc="-1" strike="noStrike" u="sng">
                <a:solidFill>
                  <a:srgbClr val="ff3300"/>
                </a:solidFill>
                <a:uFillTx/>
                <a:latin typeface="Arial"/>
                <a:ea typeface="黑体"/>
              </a:rPr>
              <a:t>直肠括约肌痉挛、腹痛、里急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  <a:ea typeface="黑体"/>
              </a:rPr>
              <a:t>              </a:t>
            </a:r>
            <a:r>
              <a:rPr b="1" lang="zh-CN" sz="1800" spc="-1" strike="noStrike" u="sng">
                <a:solidFill>
                  <a:srgbClr val="ff3300"/>
                </a:solidFill>
                <a:uFillTx/>
                <a:latin typeface="Arial"/>
                <a:ea typeface="黑体"/>
              </a:rPr>
              <a:t>后重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外毒素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shiga toxin,ST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：可引起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vero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细胞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变，亦称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vero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毒素，具有</a:t>
            </a:r>
            <a:r>
              <a:rPr b="1" lang="zh-CN" sz="1800" spc="-1" strike="noStrike">
                <a:solidFill>
                  <a:srgbClr val="ff3300"/>
                </a:solidFill>
                <a:latin typeface="黑体"/>
                <a:ea typeface="黑体"/>
              </a:rPr>
              <a:t>肠毒素性、细胞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黑体"/>
                <a:ea typeface="黑体"/>
              </a:rPr>
              <a:t>       </a:t>
            </a:r>
            <a:r>
              <a:rPr b="1" lang="zh-CN" sz="1800" spc="-1" strike="noStrike">
                <a:solidFill>
                  <a:srgbClr val="ff3300"/>
                </a:solidFill>
                <a:latin typeface="黑体"/>
                <a:ea typeface="黑体"/>
              </a:rPr>
              <a:t>毒性、神经毒性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143000" y="4343400"/>
            <a:ext cx="2362320" cy="22176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685800" y="1143000"/>
            <a:ext cx="5638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黑体"/>
              </a:rPr>
              <a:t>（二）致病性与免疫性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partment of Microbiology, Harbin Medical University</a:t>
            </a:r>
          </a:p>
        </p:txBody>
      </p:sp>
    </p:spTree>
  </p:cSld>
  <p:transition spd="slow"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040" y="1066680"/>
            <a:ext cx="25146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</a:rPr>
              <a:t>2.</a:t>
            </a:r>
            <a:r>
              <a:rPr b="0" lang="zh-CN" sz="3600" spc="-1" strike="noStrike">
                <a:solidFill>
                  <a:srgbClr val="ff9900"/>
                </a:solidFill>
                <a:latin typeface="Arial"/>
              </a:rPr>
              <a:t>所致疾病</a:t>
            </a:r>
            <a:endParaRPr b="0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3392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菌性痢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患者和带菌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粪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现：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潜伏期数小时至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7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发热、腹痛、腹泻、里急后重、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Arial"/>
              </a:rPr>
              <a:t>黏液脓血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4876920" y="1600200"/>
            <a:ext cx="3835440" cy="4495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partment of Microbiology, Harbin Medical University</a:t>
            </a:r>
          </a:p>
        </p:txBody>
      </p:sp>
    </p:spTree>
  </p:cSld>
  <p:transition spd="slow"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362320" y="228600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6019920" y="685800"/>
            <a:ext cx="2949480" cy="3886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523880" y="5486400"/>
            <a:ext cx="27432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多见于儿童急性感染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371600" y="259092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起病急，发热、腹痛、里急后重、腹泻、有</a:t>
            </a:r>
            <a:r>
              <a:rPr b="1" lang="zh-CN" sz="20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脓血黏液便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没有呕吐、恶心现象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371600" y="403848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病程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个月以上，常反复发作，呈慢性过程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199520" y="19810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黑体"/>
              </a:rPr>
              <a:t>急性菌痢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75480" y="35053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黑体"/>
              </a:rPr>
              <a:t>慢性菌痢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47480" y="50292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黑体"/>
              </a:rPr>
              <a:t>中毒性菌痢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" y="11430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Times New Roman"/>
                <a:ea typeface="黑体"/>
              </a:rPr>
              <a:t>临床分类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partment of Microbiology, Harbin Medical University</a:t>
            </a:r>
          </a:p>
        </p:txBody>
      </p:sp>
    </p:spTree>
  </p:cSld>
  <p:transition spd="slow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8T16:02:17Z</dcterms:created>
  <dc:creator>Susan</dc:creator>
  <dc:description/>
  <dc:language>en-US</dc:language>
  <cp:lastModifiedBy>微软用户</cp:lastModifiedBy>
  <dcterms:modified xsi:type="dcterms:W3CDTF">2014-04-17T16:43:28Z</dcterms:modified>
  <cp:revision>720</cp:revision>
  <dc:subject/>
  <dc:title>Microbiology includes:</dc:title>
</cp:coreProperties>
</file>