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FB9-A663-4718-91E2-113C4DB1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1C0-0B52-43A5-B146-5ADACE2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63A-220C-4A59-9F25-1FD4E6B9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C25-F938-433A-A42D-F19BA717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0ED3-B4F0-4E26-A76E-6656FDF2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978B-4CD6-420C-9B02-7195CD5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C9CB-0DB4-4AF2-9CA7-99470450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BA0A-9054-4428-98B2-DF253F8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C2CF-AFCF-4E7F-80E9-12A8FB67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B1E6-F236-4034-9A43-21A0ACB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30D-2180-4917-A22E-7334F59A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1A4-E2EC-40D0-AC52-92117335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F35-AD45-4B6C-BA56-2F6EE9B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D135-68BF-4FB5-B16D-41E8698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ABCA-1221-4D7B-971F-E3460A0A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F12-C31B-4CEB-B349-E05BEA57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EFF2-4262-41E2-AF7D-F8A1A0DF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B40-2536-45DA-9B7C-BC5DB3BF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DCFD-2D2A-45E4-9110-B20E4FC9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3E8-2611-49A2-9BFC-8E4085AF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0AF-3AE0-4D93-BD8B-414D3513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0E3-9C3F-476B-B9C5-0EDF9F7F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F26-671D-4FD2-96AC-82928EB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21B-E210-4BA0-B921-E8B226E8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3CC-9968-44BC-97E9-2742BDF50B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8E8-1A11-4C6C-8CC4-0DEC4FAA761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669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七章  自身免疫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60820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3880" y="2565360"/>
            <a:ext cx="4533480" cy="23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熟记自身免疫与自身免疫病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说出自身免疫病的发生机制及代表性疾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．知道自身免疫病的致病相关因素及其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08360" y="-633600"/>
            <a:ext cx="468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一）根据发病的诱因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原发性自身免疫病  发病无明显诱因，与遗传因素密切相关；预后多数不良，常呈慢性迁延，如系统性红斑狼疮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L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临床上自身免疫病大都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继发性自身免疫病  发病有明显诱因，如药物、外伤和感染。当诱因去除后常能治愈，一般预后良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如药物引起的血细胞减少症。少数自身免疫病为此种类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836640"/>
            <a:ext cx="835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7280" y="1069560"/>
            <a:ext cx="4876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按致病性自身抗原的分布范围分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器官特异性自身免疫性疾病  指致病性自身抗原为某一器官的特定成分，病变局限在该器官。如桥本甲状腺炎，其致病性自身抗原为甲状腺球蛋白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全身性（或系统性）自身免疫性疾病  也称器官非特异性自身免疫性疾病。是指致病性自身抗原为细胞核成分和线粒体等，病变遍及全身各器官，如系统性红斑狼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-468360" y="-731880"/>
            <a:ext cx="94330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6320" y="29736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-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常见的自身免疫病及其相应的自身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981000"/>
          <a:ext cx="8569080" cy="5492880"/>
        </p:xfrm>
        <a:graphic>
          <a:graphicData uri="http://schemas.openxmlformats.org/drawingml/2006/table">
            <a:tbl>
              <a:tblPr/>
              <a:tblGrid>
                <a:gridCol w="3095640"/>
                <a:gridCol w="3313080"/>
                <a:gridCol w="216036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免疫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自身抗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病变器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器官特异性自身免疫病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微粒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甲状腺功能亢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细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腺胰岛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胰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艾迪生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肾上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身免疫溶血性贫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红细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小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-489600"/>
            <a:ext cx="579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1197000"/>
          <a:ext cx="9144000" cy="5068800"/>
        </p:xfrm>
        <a:graphic>
          <a:graphicData uri="http://schemas.openxmlformats.org/drawingml/2006/table">
            <a:tbl>
              <a:tblPr/>
              <a:tblGrid>
                <a:gridCol w="3635280"/>
                <a:gridCol w="2843280"/>
                <a:gridCol w="2665440"/>
              </a:tblGrid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padtur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泡和肾小球基底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肺、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重症肌无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乙酰胆碱受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肌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原发性不育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全身性自身免疫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类风湿关节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性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肾、心、关节等各种器官的病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系统性红斑狼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细胞核、组蛋白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皮肤、关节、肾、肺、心、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干燥综合征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s syndrome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管、细胞核、甲状腺球蛋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唾液腺、甲状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-10299960"/>
            <a:ext cx="216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自身免疫病的分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按疾病累及的系统分类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468360" y="-600120"/>
            <a:ext cx="882036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31600" y="699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各系统自身免疫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557360"/>
          <a:ext cx="8893080" cy="5014800"/>
        </p:xfrm>
        <a:graphic>
          <a:graphicData uri="http://schemas.openxmlformats.org/drawingml/2006/table">
            <a:tbl>
              <a:tblPr/>
              <a:tblGrid>
                <a:gridCol w="2160360"/>
                <a:gridCol w="67327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同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病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缔组织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风湿关节炎、系统性红斑狼疮、皮肌炎、硬皮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神经肌肉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发性硬化症、重症肌无力、脱髓鞘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内分泌性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原发性肾上腺皮质萎缩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桥本甲状腺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型糖尿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消化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慢性非特异性溃疡性结肠炎、慢性活动性肝炎、恶性贫血与萎缩性胃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泌尿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肾小球肾炎、肺肾综合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液系统疾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自身免疫性溶血性贫血、特发性血小板减少性紫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1141200"/>
            <a:ext cx="674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预防和控制微生物感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种微生物可诱发自身免疫性疾病。采用疫苗和抗生素控制微生物的感染，尤其是微生物持续性感染，可减少分子模拟，降低自身免疫性疾病的发生率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应用免疫抑制剂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免疫抑制剂是治疗自身免疫性疾病的有效药物。环孢菌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K506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多种自身免疫性疾病的治疗有明显的临床疗效。其作用机制是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L-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等基因的活化，进而抑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细胞的分化和增殖。皮质激素可通过抑制炎症反应减轻自身免疫性疾病的症状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三节  防治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对症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炎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皮质激素 、水杨酸制剂、前列腺素抑制剂 、细胞因子和补体的拮抗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替代疗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其他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四、口服自身抗原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404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第一节  自身免疫病的概念与特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是指机体对自身抗原发生免疫应答，产生针对自身成分的抗体或自身致敏淋巴细胞的现象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达一定程度而引起自身组织的损伤或功能障碍，出现临床症状者，称为自身免疫病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utoimmune disea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患者血液中可测出高效价自身抗体和（或）自身组织成分起反应的致敏淋巴细胞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体和（或）自身致敏淋巴细胞作用于靶抗原所在的组织、细胞，造成相应组织器官的损伤和功能障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在动物实验中可复制出相似的病理模型，并能通过患者的血清或淋巴细胞使疾病被动转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f2109"/>
                </a:solidFill>
                <a:latin typeface="华文新魏"/>
                <a:ea typeface="华文新魏"/>
              </a:rPr>
              <a:t>自身免疫性疾病的特征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病情转归与自身免疫反应强度密切相关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疾病的发生有一定的遗传倾向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常呈反复发作和慢性迁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一）抗原方面的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隐蔽抗原的释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抗原的改变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子模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交叉抗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-11160"/>
            <a:ext cx="6950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的打破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免疫忽视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mmunological ignor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是指免疫系统对低水平抗原或低亲和力抗原不发生免疫应答的现象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胸腺功能不全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973080"/>
            <a:ext cx="681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二）免疫系统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调节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细胞功能失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H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类分子表达异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-531720"/>
            <a:ext cx="889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069560"/>
            <a:ext cx="5740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三）生理因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病的发病还与年龄、性别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四）遗传方面的因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的发生有家族史倾向。在遗传因素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位基因的某些基因型以及一些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均和人类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I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发生密切相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14200"/>
            <a:ext cx="8820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069560"/>
            <a:ext cx="723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、自身免疫病的发病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身免疫性疾病实际上是由自身抗体，自身反应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淋巴细胞，或二者共同引起的针对自身抗原的超敏反应性疾病，其免疫损伤机制和超敏反应的Ⅱ、Ⅲ、Ⅳ型机理相同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692280"/>
            <a:ext cx="74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85920"/>
            <a:ext cx="76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第二节  自身免疫病的发病机制与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4:57:37Z</dcterms:created>
  <dc:creator>haoyan</dc:creator>
  <dc:description/>
  <dc:language>en-US</dc:language>
  <cp:lastModifiedBy>微软用户</cp:lastModifiedBy>
  <dcterms:modified xsi:type="dcterms:W3CDTF">2014-04-17T16:16:07Z</dcterms:modified>
  <cp:revision>9</cp:revision>
  <dc:subject/>
  <dc:title>第七章 自身免疫病</dc:title>
</cp:coreProperties>
</file>