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D58-0BEF-43BA-998F-175B9572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216-D9F7-4A24-B06E-57DB64FE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4F3B-7FD6-4989-8DBB-6F9938E4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2A9-4533-404E-8134-E6DB68CD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A69-01EF-49DE-8FFF-95D1D53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990-867D-459F-87C6-7E971943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8E6-4F86-4866-BC7F-D82D7DC6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699-C619-49C2-9B0D-A8828756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E1C-0AAE-4EA3-8B56-59B279FA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1A0-AD83-4DD0-8736-578D0FFE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C9F-E163-440D-8561-1E97CA60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6A1-C959-4C54-90A4-D1F86539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2567-910E-481E-B42E-CCCD6B0419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华文行楷"/>
                <a:ea typeface="华文行楷"/>
              </a:rPr>
              <a:t>第三章  抗 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解释抗原、完全抗原、半抗原、抗原决定基、共同抗原和交叉反应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说出抗原的基本特性；说出决定抗原具有免疫原性的条件；医学上重要的抗原物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知道抗原的分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节    抗原的特异性与交叉反应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一、特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      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指抗原只能刺激机体产生针对该抗原的免疫效应物质，且只能与相应的免疫效应物质特异性结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是免疫应答最基本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06e6"/>
                </a:solidFill>
                <a:latin typeface="Arial"/>
                <a:ea typeface="华文行楷"/>
              </a:rPr>
              <a:t>是免疫学诊断与防治的理论依据</a:t>
            </a:r>
            <a:r>
              <a:rPr b="0" lang="zh-CN" sz="2800" spc="-1" strike="noStrike">
                <a:solidFill>
                  <a:srgbClr val="1309e3"/>
                </a:solidFill>
                <a:latin typeface="Arial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3985560"/>
            <a:ext cx="6799320" cy="2470680"/>
            <a:chOff x="826920" y="3985560"/>
            <a:chExt cx="6799320" cy="2470680"/>
          </a:xfrm>
        </p:grpSpPr>
        <p:grpSp>
          <p:nvGrpSpPr>
            <p:cNvPr id="353" name=""/>
            <p:cNvGrpSpPr/>
            <p:nvPr/>
          </p:nvGrpSpPr>
          <p:grpSpPr>
            <a:xfrm>
              <a:off x="6892560" y="3985560"/>
              <a:ext cx="691560" cy="481680"/>
              <a:chOff x="6892560" y="3985560"/>
              <a:chExt cx="691560" cy="481680"/>
            </a:xfrm>
          </p:grpSpPr>
          <p:sp>
            <p:nvSpPr>
              <p:cNvPr id="354" name=""/>
              <p:cNvSpPr/>
              <p:nvPr/>
            </p:nvSpPr>
            <p:spPr>
              <a:xfrm flipH="1" flipV="1" rot="3591600">
                <a:off x="6953040" y="424044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3591600">
                <a:off x="7383240" y="3990600"/>
                <a:ext cx="139680" cy="221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9791000">
                <a:off x="7003080" y="4081320"/>
                <a:ext cx="442080" cy="279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826920" y="4262760"/>
              <a:ext cx="6799320" cy="2193480"/>
              <a:chOff x="826920" y="4262760"/>
              <a:chExt cx="6799320" cy="2193480"/>
            </a:xfrm>
          </p:grpSpPr>
          <p:sp>
            <p:nvSpPr>
              <p:cNvPr id="358" name=""/>
              <p:cNvSpPr/>
              <p:nvPr/>
            </p:nvSpPr>
            <p:spPr>
              <a:xfrm>
                <a:off x="1932840" y="4682520"/>
                <a:ext cx="8107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06280" y="5848560"/>
                <a:ext cx="73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826920" y="4542840"/>
                <a:ext cx="718200" cy="279720"/>
                <a:chOff x="826920" y="4542840"/>
                <a:chExt cx="718200" cy="279720"/>
              </a:xfrm>
            </p:grpSpPr>
            <p:sp>
              <p:nvSpPr>
                <p:cNvPr id="361" name=""/>
                <p:cNvSpPr/>
                <p:nvPr/>
              </p:nvSpPr>
              <p:spPr>
                <a:xfrm flipH="1" flipV="1" rot="5400000">
                  <a:off x="86760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5400000">
                  <a:off x="1364760" y="458352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55440" y="45428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00360" y="5708520"/>
                <a:ext cx="737280" cy="279720"/>
                <a:chOff x="900360" y="5708520"/>
                <a:chExt cx="737280" cy="27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900360" y="5813280"/>
                  <a:ext cx="73728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047600" y="570852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112560" y="4309200"/>
                <a:ext cx="1474560" cy="652680"/>
                <a:chOff x="3112560" y="4309200"/>
                <a:chExt cx="1474560" cy="652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112560" y="46105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112560" y="4711320"/>
                  <a:ext cx="10616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4115520" y="440928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174200" y="471132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410720" y="486216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10720" y="486216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4410720" y="430920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10720" y="440928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964960" y="5522040"/>
                <a:ext cx="1382040" cy="547200"/>
                <a:chOff x="2964960" y="5522040"/>
                <a:chExt cx="1382040" cy="5472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96496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96496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396792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02624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19976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419940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660920" y="4636080"/>
                <a:ext cx="81108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513680" y="5848560"/>
                <a:ext cx="81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5619600" y="4262760"/>
                <a:ext cx="1474200" cy="652680"/>
                <a:chOff x="5619600" y="4262760"/>
                <a:chExt cx="1474200" cy="6526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619600" y="45640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619600" y="466488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V="1">
                  <a:off x="6622200" y="4362840"/>
                  <a:ext cx="294840" cy="200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80880" y="4664880"/>
                  <a:ext cx="236520" cy="150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17400" y="4815720"/>
                  <a:ext cx="5796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917400" y="4815720"/>
                  <a:ext cx="17640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6917400" y="4262760"/>
                  <a:ext cx="0" cy="997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917400" y="4362840"/>
                  <a:ext cx="1180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6834960" y="5133240"/>
                <a:ext cx="518400" cy="498240"/>
                <a:chOff x="6834960" y="5133240"/>
                <a:chExt cx="518400" cy="498240"/>
              </a:xfrm>
            </p:grpSpPr>
            <p:sp>
              <p:nvSpPr>
                <p:cNvPr id="395" name=""/>
                <p:cNvSpPr/>
                <p:nvPr/>
              </p:nvSpPr>
              <p:spPr>
                <a:xfrm rot="18598800">
                  <a:off x="6874920" y="5320080"/>
                  <a:ext cx="465840" cy="147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18598800">
                  <a:off x="6954120" y="5161320"/>
                  <a:ext cx="279360" cy="442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848640" y="5911200"/>
                <a:ext cx="624240" cy="545040"/>
                <a:chOff x="6848640" y="5911200"/>
                <a:chExt cx="624240" cy="545040"/>
              </a:xfrm>
            </p:grpSpPr>
            <p:sp>
              <p:nvSpPr>
                <p:cNvPr id="398" name=""/>
                <p:cNvSpPr/>
                <p:nvPr/>
              </p:nvSpPr>
              <p:spPr>
                <a:xfrm rot="2400600">
                  <a:off x="6792120" y="6136920"/>
                  <a:ext cx="736920" cy="92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2400600">
                  <a:off x="6946560" y="6034680"/>
                  <a:ext cx="442080" cy="27972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5545800" y="5522040"/>
                <a:ext cx="1382040" cy="547200"/>
                <a:chOff x="5545800" y="5522040"/>
                <a:chExt cx="1382040" cy="547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545800" y="577620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545800" y="5877360"/>
                  <a:ext cx="106128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548760" y="5574960"/>
                  <a:ext cx="294840" cy="20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607080" y="5877360"/>
                  <a:ext cx="236520" cy="150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780600" y="552204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6780240" y="5976360"/>
                  <a:ext cx="147240" cy="928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972120" y="4696560"/>
                <a:ext cx="654120" cy="549720"/>
                <a:chOff x="6972120" y="4696560"/>
                <a:chExt cx="654120" cy="5497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 flipV="1" rot="7660800">
                  <a:off x="7031880" y="47084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7660800">
                  <a:off x="7426080" y="5012640"/>
                  <a:ext cx="139680" cy="221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2260200">
                  <a:off x="7077240" y="4816440"/>
                  <a:ext cx="442080" cy="27972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73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208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抗原决定基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决定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是抗原分子中决定抗原特异性的特殊化学基团，一般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氨基酸残基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多糖残基或核苷酸构成。它是与抗体、免疫活性细胞抗原受体特异性结合的部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天然抗原含有多种抗原决定基。抗原分子上能与抗体分子结合的抗原决定基的总数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隶书"/>
              </a:rPr>
              <a:t>抗原结合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24000" y="-906120"/>
            <a:ext cx="73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抗原决定基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性抗原决定基与隐蔽性抗原决定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于分子表面的决定基，易被相应的淋巴细胞识别而启动免疫应答，称为功能性决定基。位于抗原分子内部的决定基，不能直接激发免疫应答，称为隐蔽决定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构象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序列上不相连，由天然构象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于分子内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抗原决定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经降解加工处理后才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细胞表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C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别或抗体识别并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象决定基或线性决定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826920" y="907920"/>
            <a:ext cx="2602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半抗原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Hapten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9810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167840" y="197640"/>
            <a:ext cx="3528720" cy="3398400"/>
            <a:chOff x="1167840" y="197640"/>
            <a:chExt cx="3528720" cy="3398400"/>
          </a:xfrm>
        </p:grpSpPr>
        <p:sp>
          <p:nvSpPr>
            <p:cNvPr id="421" name=""/>
            <p:cNvSpPr/>
            <p:nvPr/>
          </p:nvSpPr>
          <p:spPr>
            <a:xfrm rot="18432000">
              <a:off x="1866240" y="490680"/>
              <a:ext cx="2131920" cy="281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3720" y="976680"/>
              <a:ext cx="186480" cy="14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962520" y="1447920"/>
            <a:ext cx="914400" cy="1066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2387520"/>
            <a:ext cx="51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免疫应答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mmune response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52960" y="175248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17334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9240" y="933480"/>
            <a:ext cx="83808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24200" y="113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载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5000" y="1066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43560" y="91440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72160" y="952560"/>
            <a:ext cx="838440" cy="22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095520" y="1447920"/>
            <a:ext cx="76212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422960" y="2904480"/>
            <a:ext cx="971280" cy="1057320"/>
            <a:chOff x="4422960" y="2904480"/>
            <a:chExt cx="971280" cy="1057320"/>
          </a:xfrm>
        </p:grpSpPr>
        <p:sp>
          <p:nvSpPr>
            <p:cNvPr id="434" name=""/>
            <p:cNvSpPr/>
            <p:nvPr/>
          </p:nvSpPr>
          <p:spPr>
            <a:xfrm flipV="1" rot="21561600">
              <a:off x="4925160" y="3349440"/>
              <a:ext cx="360" cy="19152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 rot="21561600">
              <a:off x="4853160" y="3341880"/>
              <a:ext cx="31680" cy="2034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 rot="21561600">
              <a:off x="4803840" y="3164760"/>
              <a:ext cx="8496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 rot="21561600">
              <a:off x="4894920" y="3164760"/>
              <a:ext cx="8640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21561600">
              <a:off x="4892040" y="3255120"/>
              <a:ext cx="87840" cy="9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21561600">
              <a:off x="4803120" y="3260160"/>
              <a:ext cx="84960" cy="9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 rot="5361600">
              <a:off x="4903920" y="3447720"/>
              <a:ext cx="304560" cy="720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92200">
              <a:off x="4484520" y="3003120"/>
              <a:ext cx="847800" cy="59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609200">
              <a:off x="5121000" y="3054240"/>
              <a:ext cx="99720" cy="8640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0800000">
              <a:off x="4572000" y="3448800"/>
              <a:ext cx="695520" cy="513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0800000">
              <a:off x="4655520" y="3504960"/>
              <a:ext cx="470160" cy="23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842640" y="4542120"/>
            <a:ext cx="1753920" cy="1934280"/>
            <a:chOff x="3842640" y="4542120"/>
            <a:chExt cx="1753920" cy="1934280"/>
          </a:xfrm>
        </p:grpSpPr>
        <p:sp>
          <p:nvSpPr>
            <p:cNvPr id="446" name=""/>
            <p:cNvSpPr/>
            <p:nvPr/>
          </p:nvSpPr>
          <p:spPr>
            <a:xfrm flipV="1" rot="21561600">
              <a:off x="4750200" y="5352840"/>
              <a:ext cx="360" cy="3513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 rot="21561600">
              <a:off x="4620960" y="5339160"/>
              <a:ext cx="56880" cy="3729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 rot="21561600">
              <a:off x="4532760" y="5013360"/>
              <a:ext cx="1530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 rot="21561600">
              <a:off x="4696560" y="5013360"/>
              <a:ext cx="15516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21561600">
              <a:off x="4691160" y="5179320"/>
              <a:ext cx="158400" cy="176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21561600">
              <a:off x="4530600" y="5190120"/>
              <a:ext cx="153000" cy="177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5361600">
              <a:off x="4708080" y="5533920"/>
              <a:ext cx="558000" cy="1299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892200">
              <a:off x="3956400" y="4719600"/>
              <a:ext cx="1526040" cy="108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609200">
              <a:off x="5100480" y="4814280"/>
              <a:ext cx="182880" cy="1551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0800000">
              <a:off x="4114440" y="5535720"/>
              <a:ext cx="1251720" cy="940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0800000">
              <a:off x="4264920" y="5638320"/>
              <a:ext cx="84636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4960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54520" y="601992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2240" y="594360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029200" y="403848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4114800"/>
            <a:ext cx="3812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4038480"/>
            <a:ext cx="228600" cy="3049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43600" y="4495680"/>
            <a:ext cx="76212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5240" y="4035960"/>
            <a:ext cx="228600" cy="763920"/>
            <a:chOff x="5565240" y="4035960"/>
            <a:chExt cx="228600" cy="763920"/>
          </a:xfrm>
        </p:grpSpPr>
        <p:sp>
          <p:nvSpPr>
            <p:cNvPr id="465" name=""/>
            <p:cNvSpPr/>
            <p:nvPr/>
          </p:nvSpPr>
          <p:spPr>
            <a:xfrm rot="5438400">
              <a:off x="5597640" y="4005000"/>
              <a:ext cx="163080" cy="2268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38400">
              <a:off x="5376240" y="4414320"/>
              <a:ext cx="598680" cy="1699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>
            <a:off x="7086600" y="434340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1219320"/>
            <a:ext cx="1752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09e3"/>
                </a:solidFill>
                <a:latin typeface="Arial Narrow"/>
              </a:rPr>
              <a:t>完全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240" y="3048120"/>
            <a:ext cx="190800" cy="228240"/>
            <a:chOff x="5943240" y="3048120"/>
            <a:chExt cx="190800" cy="228240"/>
          </a:xfrm>
        </p:grpSpPr>
        <p:sp>
          <p:nvSpPr>
            <p:cNvPr id="470" name=""/>
            <p:cNvSpPr/>
            <p:nvPr/>
          </p:nvSpPr>
          <p:spPr>
            <a:xfrm>
              <a:off x="60577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1956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808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94324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752800" y="3276720"/>
            <a:ext cx="190800" cy="228240"/>
            <a:chOff x="5752800" y="3276720"/>
            <a:chExt cx="190800" cy="228240"/>
          </a:xfrm>
        </p:grpSpPr>
        <p:sp>
          <p:nvSpPr>
            <p:cNvPr id="475" name=""/>
            <p:cNvSpPr/>
            <p:nvPr/>
          </p:nvSpPr>
          <p:spPr>
            <a:xfrm>
              <a:off x="586728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29120" y="32767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67640" y="34286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52800" y="34286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200720" y="3048120"/>
            <a:ext cx="190800" cy="228240"/>
            <a:chOff x="7200720" y="3048120"/>
            <a:chExt cx="190800" cy="228240"/>
          </a:xfrm>
        </p:grpSpPr>
        <p:sp>
          <p:nvSpPr>
            <p:cNvPr id="480" name=""/>
            <p:cNvSpPr/>
            <p:nvPr/>
          </p:nvSpPr>
          <p:spPr>
            <a:xfrm>
              <a:off x="731520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7704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31556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0072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438600" y="3048120"/>
            <a:ext cx="190800" cy="228240"/>
            <a:chOff x="6438600" y="3048120"/>
            <a:chExt cx="190800" cy="228240"/>
          </a:xfrm>
        </p:grpSpPr>
        <p:sp>
          <p:nvSpPr>
            <p:cNvPr id="485" name=""/>
            <p:cNvSpPr/>
            <p:nvPr/>
          </p:nvSpPr>
          <p:spPr>
            <a:xfrm>
              <a:off x="655308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14920" y="30481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3440" y="32000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438600" y="32000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86320" y="3352680"/>
            <a:ext cx="190800" cy="228240"/>
            <a:chOff x="6286320" y="3352680"/>
            <a:chExt cx="190800" cy="228240"/>
          </a:xfrm>
        </p:grpSpPr>
        <p:sp>
          <p:nvSpPr>
            <p:cNvPr id="490" name=""/>
            <p:cNvSpPr/>
            <p:nvPr/>
          </p:nvSpPr>
          <p:spPr>
            <a:xfrm>
              <a:off x="64008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26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011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2863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743520" y="3352680"/>
            <a:ext cx="190800" cy="228240"/>
            <a:chOff x="6743520" y="3352680"/>
            <a:chExt cx="190800" cy="228240"/>
          </a:xfrm>
        </p:grpSpPr>
        <p:sp>
          <p:nvSpPr>
            <p:cNvPr id="495" name=""/>
            <p:cNvSpPr/>
            <p:nvPr/>
          </p:nvSpPr>
          <p:spPr>
            <a:xfrm>
              <a:off x="685800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19840" y="33526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58360" y="35046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743520" y="35046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95800" y="3505320"/>
            <a:ext cx="190800" cy="228240"/>
            <a:chOff x="6895800" y="3505320"/>
            <a:chExt cx="190800" cy="228240"/>
          </a:xfrm>
        </p:grpSpPr>
        <p:sp>
          <p:nvSpPr>
            <p:cNvPr id="500" name=""/>
            <p:cNvSpPr/>
            <p:nvPr/>
          </p:nvSpPr>
          <p:spPr>
            <a:xfrm>
              <a:off x="701028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72120" y="35053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0640" y="36572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6895800" y="36572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048080" y="3657600"/>
            <a:ext cx="190800" cy="228240"/>
            <a:chOff x="7048080" y="3657600"/>
            <a:chExt cx="190800" cy="228240"/>
          </a:xfrm>
        </p:grpSpPr>
        <p:sp>
          <p:nvSpPr>
            <p:cNvPr id="505" name=""/>
            <p:cNvSpPr/>
            <p:nvPr/>
          </p:nvSpPr>
          <p:spPr>
            <a:xfrm>
              <a:off x="716256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24400" y="36576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62920" y="38095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48080" y="38095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096240" y="3200400"/>
            <a:ext cx="190800" cy="228240"/>
            <a:chOff x="6096240" y="3200400"/>
            <a:chExt cx="190800" cy="228240"/>
          </a:xfrm>
        </p:grpSpPr>
        <p:sp>
          <p:nvSpPr>
            <p:cNvPr id="510" name=""/>
            <p:cNvSpPr/>
            <p:nvPr/>
          </p:nvSpPr>
          <p:spPr>
            <a:xfrm>
              <a:off x="621072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72560" y="32004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080" y="33523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6096240" y="33523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905080" y="3581280"/>
            <a:ext cx="190800" cy="228240"/>
            <a:chOff x="5905080" y="3581280"/>
            <a:chExt cx="190800" cy="228240"/>
          </a:xfrm>
        </p:grpSpPr>
        <p:sp>
          <p:nvSpPr>
            <p:cNvPr id="515" name=""/>
            <p:cNvSpPr/>
            <p:nvPr/>
          </p:nvSpPr>
          <p:spPr>
            <a:xfrm>
              <a:off x="601956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81400" y="358128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19920" y="373320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905080" y="373320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00440" y="3733920"/>
            <a:ext cx="190800" cy="228240"/>
            <a:chOff x="6400440" y="3733920"/>
            <a:chExt cx="190800" cy="228240"/>
          </a:xfrm>
        </p:grpSpPr>
        <p:sp>
          <p:nvSpPr>
            <p:cNvPr id="520" name=""/>
            <p:cNvSpPr/>
            <p:nvPr/>
          </p:nvSpPr>
          <p:spPr>
            <a:xfrm>
              <a:off x="651492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76760" y="37339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5280" y="38858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400440" y="38858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6240" y="3429000"/>
            <a:ext cx="190800" cy="228240"/>
            <a:chOff x="6096240" y="3429000"/>
            <a:chExt cx="190800" cy="228240"/>
          </a:xfrm>
        </p:grpSpPr>
        <p:sp>
          <p:nvSpPr>
            <p:cNvPr id="525" name=""/>
            <p:cNvSpPr/>
            <p:nvPr/>
          </p:nvSpPr>
          <p:spPr>
            <a:xfrm>
              <a:off x="621072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172560" y="34290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080" y="35809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096240" y="35809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73915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510696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3594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21680" y="487620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594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7238880" y="502920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960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67480" y="5487840"/>
            <a:ext cx="122400" cy="152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6440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6240" y="5257080"/>
            <a:ext cx="0" cy="15228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64400" y="5410080"/>
            <a:ext cx="7632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549920" y="5410080"/>
            <a:ext cx="75960" cy="76320"/>
          </a:xfrm>
          <a:prstGeom prst="line">
            <a:avLst/>
          </a:prstGeom>
          <a:ln w="28440">
            <a:solidFill>
              <a:srgbClr val="e60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5334120"/>
            <a:ext cx="12204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332760" y="5105520"/>
            <a:ext cx="190800" cy="228240"/>
            <a:chOff x="6332760" y="5105520"/>
            <a:chExt cx="190800" cy="228240"/>
          </a:xfrm>
        </p:grpSpPr>
        <p:sp>
          <p:nvSpPr>
            <p:cNvPr id="543" name=""/>
            <p:cNvSpPr/>
            <p:nvPr/>
          </p:nvSpPr>
          <p:spPr>
            <a:xfrm>
              <a:off x="644724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09080" y="510552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7600" y="525744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32760" y="525744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504120" y="5486400"/>
            <a:ext cx="7596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248520" y="5334120"/>
            <a:ext cx="122040" cy="380880"/>
            <a:chOff x="6248520" y="5334120"/>
            <a:chExt cx="122040" cy="380880"/>
          </a:xfrm>
        </p:grpSpPr>
        <p:sp>
          <p:nvSpPr>
            <p:cNvPr id="549" name=""/>
            <p:cNvSpPr/>
            <p:nvPr/>
          </p:nvSpPr>
          <p:spPr>
            <a:xfrm>
              <a:off x="6248520" y="5334120"/>
              <a:ext cx="122040" cy="15228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75520" y="5486400"/>
              <a:ext cx="7596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0102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81680" y="5486400"/>
            <a:ext cx="122400" cy="15228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6865560" y="5257800"/>
            <a:ext cx="190800" cy="228240"/>
            <a:chOff x="6865560" y="5257800"/>
            <a:chExt cx="190800" cy="228240"/>
          </a:xfrm>
        </p:grpSpPr>
        <p:sp>
          <p:nvSpPr>
            <p:cNvPr id="554" name=""/>
            <p:cNvSpPr/>
            <p:nvPr/>
          </p:nvSpPr>
          <p:spPr>
            <a:xfrm>
              <a:off x="698004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41880" y="5257800"/>
              <a:ext cx="0" cy="15228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80400" y="5409720"/>
              <a:ext cx="7596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65560" y="5409720"/>
              <a:ext cx="76320" cy="76320"/>
            </a:xfrm>
            <a:prstGeom prst="line">
              <a:avLst/>
            </a:prstGeom>
            <a:ln w="28440">
              <a:solidFill>
                <a:srgbClr val="e60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70372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8680" y="5638680"/>
            <a:ext cx="763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632840" y="4493880"/>
            <a:ext cx="167400" cy="510120"/>
            <a:chOff x="4632840" y="4493880"/>
            <a:chExt cx="167400" cy="510120"/>
          </a:xfrm>
        </p:grpSpPr>
        <p:sp>
          <p:nvSpPr>
            <p:cNvPr id="561" name=""/>
            <p:cNvSpPr/>
            <p:nvPr/>
          </p:nvSpPr>
          <p:spPr>
            <a:xfrm rot="10780200">
              <a:off x="4633200" y="4799880"/>
              <a:ext cx="166320" cy="20340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0780200">
              <a:off x="4658040" y="4493880"/>
              <a:ext cx="103320" cy="305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038480" y="765000"/>
            <a:ext cx="3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载体决定基与半抗原决定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50560" y="4508640"/>
            <a:ext cx="88930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371600" y="-487440"/>
            <a:ext cx="640080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0"/>
            <a:ext cx="51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二、共同抗原与交叉反应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79280" y="692280"/>
          <a:ext cx="8713800" cy="3313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713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0" y="436572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共同抗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两种抗原含有一种相同或相似的抗原决定基，能与同一抗体发反应，则将这两种抗原称为共同抗原。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交叉反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抗体或效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细胞对具有相同或相似决定基的不同抗原的反应，称为交叉反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四节   抗原的分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根据抗原的基本性质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完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时具有免疫原性、抗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蛋白质、细菌、病毒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抗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抗原性、无免疫原性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为小分子物质，如多糖、类脂、某些药物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1278720"/>
            <a:ext cx="8028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根据诱生抗体时是否需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胞辅助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D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I-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非依赖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根据抗原与机体的亲缘关系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异嗜性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存在于不同种属间的共同抗原称异嗜性抗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异种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物来源的抗毒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）同种异型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同种异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L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根据抗原是否在抗原提呈细胞内合成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内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外源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7216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五节    医学上重要的抗原物质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896472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异种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一）病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微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非常复杂，是多种抗原的聚合体，免疫原性较强。因此，可制备相应的疫苗来预防感染，也可根据相应抗体来诊断疾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二）细菌的外毒素和类毒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某些病原菌的外毒素是毒性很强蛋白质，具有很强的免疫原性。将外毒素经甲醛处理后，失去毒性，仍保留免疫原性，称为类毒素，可作为人工自动免疫制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一节 抗原的概念及基本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一、抗原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抗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ntigen, A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：是一类能诱导机体发生免疫应答，并能与相应的免疫应答产物（抗体和致敏淋巴细胞）在体内外发生特异性结合的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533520" y="306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47640" y="1557360"/>
            <a:ext cx="554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治疗疾病使用的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物免疫血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马血清抗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19280" y="3284640"/>
            <a:ext cx="4608360" cy="520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马血清抗毒素的两重性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63640" y="3933720"/>
            <a:ext cx="73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异性抗体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和毒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种抗原，可刺激机体产生抗马血清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7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（三）异种动物血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4843440" y="476280"/>
            <a:ext cx="1938240" cy="1733400"/>
          </a:xfrm>
          <a:prstGeom prst="rect">
            <a:avLst/>
          </a:prstGeom>
          <a:ln w="0">
            <a:noFill/>
          </a:ln>
        </p:spPr>
      </p:pic>
      <p:grpSp>
        <p:nvGrpSpPr>
          <p:cNvPr id="585" name=""/>
          <p:cNvGrpSpPr/>
          <p:nvPr/>
        </p:nvGrpSpPr>
        <p:grpSpPr>
          <a:xfrm>
            <a:off x="3047760" y="609480"/>
            <a:ext cx="914400" cy="1526760"/>
            <a:chOff x="3047760" y="609480"/>
            <a:chExt cx="914400" cy="1526760"/>
          </a:xfrm>
        </p:grpSpPr>
        <p:grpSp>
          <p:nvGrpSpPr>
            <p:cNvPr id="586" name=""/>
            <p:cNvGrpSpPr/>
            <p:nvPr/>
          </p:nvGrpSpPr>
          <p:grpSpPr>
            <a:xfrm>
              <a:off x="3047760" y="609480"/>
              <a:ext cx="914400" cy="914400"/>
              <a:chOff x="3047760" y="609480"/>
              <a:chExt cx="914400" cy="914400"/>
            </a:xfrm>
          </p:grpSpPr>
          <p:sp>
            <p:nvSpPr>
              <p:cNvPr id="587" name=""/>
              <p:cNvSpPr/>
              <p:nvPr/>
            </p:nvSpPr>
            <p:spPr>
              <a:xfrm>
                <a:off x="304776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7636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580920" y="83808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466800" y="99036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 rot="16200000">
                <a:off x="3390480" y="110376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3205440" y="1676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类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143000" y="609480"/>
            <a:ext cx="914400" cy="1526760"/>
            <a:chOff x="1143000" y="609480"/>
            <a:chExt cx="914400" cy="1526760"/>
          </a:xfrm>
        </p:grpSpPr>
        <p:grpSp>
          <p:nvGrpSpPr>
            <p:cNvPr id="594" name=""/>
            <p:cNvGrpSpPr/>
            <p:nvPr/>
          </p:nvGrpSpPr>
          <p:grpSpPr>
            <a:xfrm>
              <a:off x="1143000" y="609480"/>
              <a:ext cx="914400" cy="914400"/>
              <a:chOff x="1143000" y="609480"/>
              <a:chExt cx="914400" cy="914400"/>
            </a:xfrm>
          </p:grpSpPr>
          <p:sp>
            <p:nvSpPr>
              <p:cNvPr id="595" name=""/>
              <p:cNvSpPr/>
              <p:nvPr/>
            </p:nvSpPr>
            <p:spPr>
              <a:xfrm>
                <a:off x="1143000" y="6094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7160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76520" y="838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562040" y="9140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400000">
                <a:off x="1485720" y="11044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346040" y="167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2133720" y="106668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14800" y="10666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9400" y="106668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634440" y="914400"/>
            <a:ext cx="2052360" cy="2286000"/>
            <a:chOff x="6634440" y="914400"/>
            <a:chExt cx="2052360" cy="2286000"/>
          </a:xfrm>
        </p:grpSpPr>
        <p:grpSp>
          <p:nvGrpSpPr>
            <p:cNvPr id="605" name=""/>
            <p:cNvGrpSpPr/>
            <p:nvPr/>
          </p:nvGrpSpPr>
          <p:grpSpPr>
            <a:xfrm>
              <a:off x="7696080" y="914400"/>
              <a:ext cx="990720" cy="2286000"/>
              <a:chOff x="7696080" y="914400"/>
              <a:chExt cx="990720" cy="228600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96080" y="914400"/>
                <a:ext cx="533520" cy="1828800"/>
                <a:chOff x="7696080" y="914400"/>
                <a:chExt cx="533520" cy="18288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696080" y="9144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96080" y="18856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848360" y="1066680"/>
                <a:ext cx="533520" cy="1828800"/>
                <a:chOff x="7848360" y="1066680"/>
                <a:chExt cx="533520" cy="182880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7848360" y="106668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848360" y="203796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8001000" y="1219320"/>
                <a:ext cx="533160" cy="1828800"/>
                <a:chOff x="8001000" y="1219320"/>
                <a:chExt cx="533160" cy="182880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8001000" y="1219320"/>
                  <a:ext cx="53316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001000" y="2190600"/>
                  <a:ext cx="53316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8153280" y="1371600"/>
                <a:ext cx="533520" cy="1828800"/>
                <a:chOff x="8153280" y="1371600"/>
                <a:chExt cx="533520" cy="18288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153280" y="1371600"/>
                  <a:ext cx="533520" cy="1828800"/>
                </a:xfrm>
                <a:prstGeom prst="can">
                  <a:avLst>
                    <a:gd name="adj" fmla="val 15625"/>
                  </a:avLst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153280" y="2342880"/>
                  <a:ext cx="533520" cy="838440"/>
                </a:xfrm>
                <a:prstGeom prst="can">
                  <a:avLst>
                    <a:gd name="adj" fmla="val 31439"/>
                  </a:avLst>
                </a:prstGeom>
                <a:solidFill>
                  <a:srgbClr val="ff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8" name=""/>
            <p:cNvSpPr/>
            <p:nvPr/>
          </p:nvSpPr>
          <p:spPr>
            <a:xfrm>
              <a:off x="6634440" y="2362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309e3"/>
                  </a:solidFill>
                  <a:latin typeface="Times New Roman"/>
                </a:rPr>
                <a:t>马血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 flipH="1">
            <a:off x="7772400" y="3581280"/>
            <a:ext cx="53352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855880" y="3662280"/>
            <a:ext cx="2084400" cy="2967120"/>
          </a:xfrm>
          <a:prstGeom prst="rect">
            <a:avLst/>
          </a:prstGeom>
          <a:ln w="0">
            <a:noFill/>
          </a:ln>
        </p:spPr>
      </p:pic>
      <p:grpSp>
        <p:nvGrpSpPr>
          <p:cNvPr id="621" name=""/>
          <p:cNvGrpSpPr/>
          <p:nvPr/>
        </p:nvGrpSpPr>
        <p:grpSpPr>
          <a:xfrm>
            <a:off x="7068600" y="3432240"/>
            <a:ext cx="729360" cy="2353680"/>
            <a:chOff x="7068600" y="3432240"/>
            <a:chExt cx="729360" cy="2353680"/>
          </a:xfrm>
        </p:grpSpPr>
        <p:sp>
          <p:nvSpPr>
            <p:cNvPr id="622" name=""/>
            <p:cNvSpPr/>
            <p:nvPr/>
          </p:nvSpPr>
          <p:spPr>
            <a:xfrm>
              <a:off x="7068600" y="5326200"/>
              <a:ext cx="72936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毒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7128720" y="3432240"/>
              <a:ext cx="446760" cy="454680"/>
              <a:chOff x="7128720" y="3432240"/>
              <a:chExt cx="446760" cy="454680"/>
            </a:xfrm>
          </p:grpSpPr>
          <p:sp>
            <p:nvSpPr>
              <p:cNvPr id="624" name=""/>
              <p:cNvSpPr/>
              <p:nvPr/>
            </p:nvSpPr>
            <p:spPr>
              <a:xfrm flipH="1" flipV="1">
                <a:off x="7130160" y="361872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7128720" y="369648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446960" y="351000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45520" y="37015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20680" y="37688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424280" y="343224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128720" y="4115160"/>
              <a:ext cx="446760" cy="454680"/>
              <a:chOff x="7128720" y="4115160"/>
              <a:chExt cx="446760" cy="454680"/>
            </a:xfrm>
          </p:grpSpPr>
          <p:sp>
            <p:nvSpPr>
              <p:cNvPr id="631" name=""/>
              <p:cNvSpPr/>
              <p:nvPr/>
            </p:nvSpPr>
            <p:spPr>
              <a:xfrm flipH="1" flipV="1">
                <a:off x="7130160" y="430164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7128720" y="43794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446960" y="41929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45520" y="438444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20680" y="445176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424280" y="411516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7128720" y="4722120"/>
              <a:ext cx="446760" cy="454680"/>
              <a:chOff x="7128720" y="4722120"/>
              <a:chExt cx="446760" cy="454680"/>
            </a:xfrm>
          </p:grpSpPr>
          <p:sp>
            <p:nvSpPr>
              <p:cNvPr id="638" name=""/>
              <p:cNvSpPr/>
              <p:nvPr/>
            </p:nvSpPr>
            <p:spPr>
              <a:xfrm flipH="1" flipV="1">
                <a:off x="7130160" y="490860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7128720" y="4986360"/>
                <a:ext cx="31680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7446960" y="479988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445520" y="499140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420680" y="5058720"/>
                <a:ext cx="124920" cy="1180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424280" y="4722120"/>
                <a:ext cx="128520" cy="1137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4" name=""/>
          <p:cNvGrpSpPr/>
          <p:nvPr/>
        </p:nvGrpSpPr>
        <p:grpSpPr>
          <a:xfrm>
            <a:off x="4113360" y="2666880"/>
            <a:ext cx="1754640" cy="914400"/>
            <a:chOff x="4113360" y="2666880"/>
            <a:chExt cx="1754640" cy="914400"/>
          </a:xfrm>
        </p:grpSpPr>
        <p:grpSp>
          <p:nvGrpSpPr>
            <p:cNvPr id="645" name=""/>
            <p:cNvGrpSpPr/>
            <p:nvPr/>
          </p:nvGrpSpPr>
          <p:grpSpPr>
            <a:xfrm>
              <a:off x="5025240" y="2750760"/>
              <a:ext cx="842760" cy="761760"/>
              <a:chOff x="5025240" y="2750760"/>
              <a:chExt cx="842760" cy="76176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5267880" y="3061800"/>
                <a:ext cx="59796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5269680" y="3191760"/>
                <a:ext cx="598320" cy="972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025240" y="288108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5033160" y="320148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5079600" y="3314160"/>
                <a:ext cx="236160" cy="19836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67720" y="2750760"/>
                <a:ext cx="242640" cy="1904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4113360" y="2666880"/>
              <a:ext cx="914400" cy="914400"/>
              <a:chOff x="4113360" y="2666880"/>
              <a:chExt cx="914400" cy="914400"/>
            </a:xfrm>
          </p:grpSpPr>
          <p:sp>
            <p:nvSpPr>
              <p:cNvPr id="653" name=""/>
              <p:cNvSpPr/>
              <p:nvPr/>
            </p:nvSpPr>
            <p:spPr>
              <a:xfrm>
                <a:off x="4113360" y="2666880"/>
                <a:ext cx="914400" cy="914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4196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6880" y="2895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32400" y="2971440"/>
                <a:ext cx="7632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400000">
                <a:off x="4456080" y="316188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 flipH="1" flipV="1">
            <a:off x="2438280" y="480024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3429000"/>
            <a:ext cx="2971800" cy="1447920"/>
          </a:xfrm>
          <a:prstGeom prst="irregularSeal2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3429000"/>
            <a:ext cx="2178720" cy="1872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超敏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076720" y="3213000"/>
            <a:ext cx="1008000" cy="647280"/>
            <a:chOff x="5076720" y="3213000"/>
            <a:chExt cx="1008000" cy="647280"/>
          </a:xfrm>
        </p:grpSpPr>
        <p:sp>
          <p:nvSpPr>
            <p:cNvPr id="662" name=""/>
            <p:cNvSpPr/>
            <p:nvPr/>
          </p:nvSpPr>
          <p:spPr>
            <a:xfrm flipH="1" flipV="1">
              <a:off x="5076720" y="3277800"/>
              <a:ext cx="100800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66960" y="3213000"/>
              <a:ext cx="212760" cy="485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003280" y="3860640"/>
            <a:ext cx="1676520" cy="992880"/>
            <a:chOff x="5003280" y="3860640"/>
            <a:chExt cx="1676520" cy="992880"/>
          </a:xfrm>
        </p:grpSpPr>
        <p:sp>
          <p:nvSpPr>
            <p:cNvPr id="665" name=""/>
            <p:cNvSpPr/>
            <p:nvPr/>
          </p:nvSpPr>
          <p:spPr>
            <a:xfrm flipH="1">
              <a:off x="5003280" y="3860640"/>
              <a:ext cx="1676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92520" y="4393800"/>
              <a:ext cx="546480" cy="45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5940360" y="335772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684360" y="2637000"/>
            <a:ext cx="8154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血型（红细胞）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33339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抗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组织相容性抗原（人主要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L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86312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同种异体抗原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同种动物不同个体间也存在各种组织成分抗原性的差异，称此种抗原为同种异型抗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48120" y="1981080"/>
            <a:ext cx="12952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72200" y="1828800"/>
            <a:ext cx="1143000" cy="68580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934320" y="3930480"/>
            <a:ext cx="1371600" cy="2165040"/>
            <a:chOff x="6934320" y="3930480"/>
            <a:chExt cx="1371600" cy="2165040"/>
          </a:xfrm>
        </p:grpSpPr>
        <p:grpSp>
          <p:nvGrpSpPr>
            <p:cNvPr id="673" name=""/>
            <p:cNvGrpSpPr/>
            <p:nvPr/>
          </p:nvGrpSpPr>
          <p:grpSpPr>
            <a:xfrm>
              <a:off x="6934320" y="4648320"/>
              <a:ext cx="1371600" cy="1447200"/>
              <a:chOff x="6934320" y="4648320"/>
              <a:chExt cx="1371600" cy="1447200"/>
            </a:xfrm>
          </p:grpSpPr>
          <p:sp>
            <p:nvSpPr>
              <p:cNvPr id="674" name=""/>
              <p:cNvSpPr/>
              <p:nvPr/>
            </p:nvSpPr>
            <p:spPr>
              <a:xfrm>
                <a:off x="6934320" y="4952880"/>
                <a:ext cx="1371600" cy="11426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43800" y="4648320"/>
                <a:ext cx="228600" cy="3045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7423200" y="3930480"/>
              <a:ext cx="441360" cy="642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>
            <a:off x="5334120" y="5410080"/>
            <a:ext cx="121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111560" y="4266360"/>
            <a:ext cx="457200" cy="460440"/>
            <a:chOff x="4111560" y="4266360"/>
            <a:chExt cx="457200" cy="460440"/>
          </a:xfrm>
        </p:grpSpPr>
        <p:sp>
          <p:nvSpPr>
            <p:cNvPr id="679" name=""/>
            <p:cNvSpPr/>
            <p:nvPr/>
          </p:nvSpPr>
          <p:spPr>
            <a:xfrm flipV="1">
              <a:off x="4376160" y="426780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298040" y="4266360"/>
              <a:ext cx="5040" cy="3265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flipV="1">
              <a:off x="4376160" y="45943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79240" y="459324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111560" y="4567680"/>
              <a:ext cx="118800" cy="1288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4454280" y="4570920"/>
              <a:ext cx="114480" cy="1324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619440" y="4648320"/>
            <a:ext cx="1371600" cy="1447200"/>
            <a:chOff x="3619440" y="4648320"/>
            <a:chExt cx="1371600" cy="1447200"/>
          </a:xfrm>
        </p:grpSpPr>
        <p:sp>
          <p:nvSpPr>
            <p:cNvPr id="686" name=""/>
            <p:cNvSpPr/>
            <p:nvPr/>
          </p:nvSpPr>
          <p:spPr>
            <a:xfrm>
              <a:off x="3619440" y="4952880"/>
              <a:ext cx="1371600" cy="114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28920" y="464832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733920" y="4267080"/>
            <a:ext cx="53316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494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666520" y="5486400"/>
            <a:ext cx="6858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4876920"/>
            <a:ext cx="137160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523880" y="457200"/>
            <a:ext cx="1371600" cy="3050640"/>
            <a:chOff x="1523880" y="457200"/>
            <a:chExt cx="1371600" cy="3050640"/>
          </a:xfrm>
        </p:grpSpPr>
        <p:grpSp>
          <p:nvGrpSpPr>
            <p:cNvPr id="693" name=""/>
            <p:cNvGrpSpPr/>
            <p:nvPr/>
          </p:nvGrpSpPr>
          <p:grpSpPr>
            <a:xfrm>
              <a:off x="1523880" y="1143000"/>
              <a:ext cx="1371600" cy="1447920"/>
              <a:chOff x="1523880" y="1143000"/>
              <a:chExt cx="1371600" cy="1447920"/>
            </a:xfrm>
          </p:grpSpPr>
          <p:sp>
            <p:nvSpPr>
              <p:cNvPr id="694" name=""/>
              <p:cNvSpPr/>
              <p:nvPr/>
            </p:nvSpPr>
            <p:spPr>
              <a:xfrm>
                <a:off x="1523880" y="1447920"/>
                <a:ext cx="1371600" cy="11430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33360" y="1143000"/>
                <a:ext cx="2286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1864800" y="3048120"/>
              <a:ext cx="65628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7600" y="457200"/>
              <a:ext cx="839160" cy="459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3000" y="380880"/>
            <a:ext cx="1941480" cy="3050640"/>
            <a:chOff x="4383000" y="380880"/>
            <a:chExt cx="1941480" cy="305064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4383000" y="685800"/>
              <a:ext cx="19414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5127120" y="29718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85400" y="380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7409880" y="1679760"/>
            <a:ext cx="1095120" cy="2132640"/>
            <a:chOff x="7409880" y="1679760"/>
            <a:chExt cx="1095120" cy="2132640"/>
          </a:xfrm>
        </p:grpSpPr>
        <p:sp>
          <p:nvSpPr>
            <p:cNvPr id="703" name=""/>
            <p:cNvSpPr/>
            <p:nvPr/>
          </p:nvSpPr>
          <p:spPr>
            <a:xfrm>
              <a:off x="7409880" y="3352680"/>
              <a:ext cx="1095120" cy="459720"/>
            </a:xfrm>
            <a:prstGeom prst="rect">
              <a:avLst/>
            </a:prstGeom>
            <a:noFill/>
            <a:ln w="93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抗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7695360" y="1679760"/>
              <a:ext cx="460440" cy="457200"/>
              <a:chOff x="7695360" y="1679760"/>
              <a:chExt cx="460440" cy="457200"/>
            </a:xfrm>
          </p:grpSpPr>
          <p:sp>
            <p:nvSpPr>
              <p:cNvPr id="705" name=""/>
              <p:cNvSpPr/>
              <p:nvPr/>
            </p:nvSpPr>
            <p:spPr>
              <a:xfrm flipH="1" flipV="1">
                <a:off x="7696800" y="1867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7695360" y="1945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8023320" y="1757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22240" y="1950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996680" y="2018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999920" y="1679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7695360" y="2289240"/>
              <a:ext cx="460440" cy="457200"/>
              <a:chOff x="7695360" y="2289240"/>
              <a:chExt cx="460440" cy="457200"/>
            </a:xfrm>
          </p:grpSpPr>
          <p:sp>
            <p:nvSpPr>
              <p:cNvPr id="712" name=""/>
              <p:cNvSpPr/>
              <p:nvPr/>
            </p:nvSpPr>
            <p:spPr>
              <a:xfrm flipH="1" flipV="1">
                <a:off x="7696800" y="247680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7695360" y="25549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8023320" y="23673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22240" y="25599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96680" y="262764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999920" y="228924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7695360" y="2822760"/>
              <a:ext cx="460440" cy="457200"/>
              <a:chOff x="7695360" y="2822760"/>
              <a:chExt cx="460440" cy="457200"/>
            </a:xfrm>
          </p:grpSpPr>
          <p:sp>
            <p:nvSpPr>
              <p:cNvPr id="719" name=""/>
              <p:cNvSpPr/>
              <p:nvPr/>
            </p:nvSpPr>
            <p:spPr>
              <a:xfrm flipH="1" flipV="1">
                <a:off x="7696800" y="301032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7695360" y="3088440"/>
                <a:ext cx="326520" cy="504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8023320" y="290088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22240" y="309348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996680" y="3161160"/>
                <a:ext cx="128880" cy="11880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999920" y="2822760"/>
                <a:ext cx="132480" cy="114480"/>
              </a:xfrm>
              <a:prstGeom prst="line">
                <a:avLst/>
              </a:prstGeom>
              <a:ln w="38160">
                <a:solidFill>
                  <a:srgbClr val="130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6668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5257800"/>
            <a:ext cx="19051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自身免疫性溶血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3733920"/>
            <a:ext cx="7621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666880" y="37339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65000" y="411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药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3124080"/>
            <a:ext cx="137160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6200" y="28195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2520" y="4267080"/>
            <a:ext cx="304560" cy="3049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3733920"/>
            <a:ext cx="53352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5177520" y="3358800"/>
            <a:ext cx="843120" cy="761760"/>
            <a:chOff x="5177520" y="3358800"/>
            <a:chExt cx="843120" cy="761760"/>
          </a:xfrm>
        </p:grpSpPr>
        <p:sp>
          <p:nvSpPr>
            <p:cNvPr id="735" name=""/>
            <p:cNvSpPr/>
            <p:nvPr/>
          </p:nvSpPr>
          <p:spPr>
            <a:xfrm flipV="1">
              <a:off x="5420160" y="3669840"/>
              <a:ext cx="59832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21960" y="3799800"/>
              <a:ext cx="598680" cy="97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77520" y="348912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5185440" y="380952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231880" y="3922200"/>
              <a:ext cx="236160" cy="1983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20000" y="3358800"/>
              <a:ext cx="242640" cy="1904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4973040" y="4211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身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43896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155000">
            <a:off x="636336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738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16155000">
            <a:off x="63982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0880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16155000">
            <a:off x="643320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54372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6155000">
            <a:off x="646812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78640" y="5875200"/>
            <a:ext cx="331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6155000">
            <a:off x="6502320" y="5990400"/>
            <a:ext cx="18648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611760" y="5875200"/>
            <a:ext cx="367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6155000">
            <a:off x="6537240" y="5988600"/>
            <a:ext cx="18648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48480" y="5875200"/>
            <a:ext cx="3492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6155000">
            <a:off x="6572880" y="5989680"/>
            <a:ext cx="18648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683400" y="5875200"/>
            <a:ext cx="3348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6155000">
            <a:off x="6607080" y="5990400"/>
            <a:ext cx="18648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16880" y="5875200"/>
            <a:ext cx="37800" cy="3816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6155000">
            <a:off x="6642720" y="5988240"/>
            <a:ext cx="18648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654300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 rot="16155000">
            <a:off x="646596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650808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 rot="16155000">
            <a:off x="643104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64731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 rot="16155000">
            <a:off x="63961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643824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 rot="16155000">
            <a:off x="636120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6716160" y="6100200"/>
            <a:ext cx="3780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 rot="16155000">
            <a:off x="6640560" y="5987520"/>
            <a:ext cx="187200" cy="3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82680" y="6100200"/>
            <a:ext cx="3348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 rot="16155000">
            <a:off x="6604920" y="5989680"/>
            <a:ext cx="187200" cy="3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6647760" y="6100200"/>
            <a:ext cx="349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 rot="16155000">
            <a:off x="6570720" y="5988960"/>
            <a:ext cx="187200" cy="3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6611760" y="6100200"/>
            <a:ext cx="367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 rot="16155000">
            <a:off x="6535800" y="5987880"/>
            <a:ext cx="187200" cy="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578640" y="6100200"/>
            <a:ext cx="33120" cy="37800"/>
          </a:xfrm>
          <a:prstGeom prst="ellipse">
            <a:avLst/>
          </a:prstGeom>
          <a:solidFill>
            <a:srgbClr val="c0c0c0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 rot="16155000">
            <a:off x="6500880" y="5989680"/>
            <a:ext cx="187200" cy="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564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56483"/>
              </a:path>
            </a:pathLst>
          </a:cu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751360" y="5886360"/>
            <a:ext cx="879120" cy="263160"/>
            <a:chOff x="5751360" y="5886360"/>
            <a:chExt cx="879120" cy="263160"/>
          </a:xfrm>
        </p:grpSpPr>
        <p:sp>
          <p:nvSpPr>
            <p:cNvPr id="779" name=""/>
            <p:cNvSpPr/>
            <p:nvPr/>
          </p:nvSpPr>
          <p:spPr>
            <a:xfrm>
              <a:off x="575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155000">
              <a:off x="567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87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155000">
              <a:off x="5710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822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155000">
              <a:off x="5745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57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6155000">
              <a:off x="5780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892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155000">
              <a:off x="5815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27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155000">
              <a:off x="5850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962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155000">
              <a:off x="5885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97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6155000">
              <a:off x="5920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032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6155000">
              <a:off x="5955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670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6155000">
              <a:off x="59900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10200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16155000">
              <a:off x="602568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387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155000">
              <a:off x="60616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736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155000">
              <a:off x="60966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085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16155000">
              <a:off x="61315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24348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155000">
              <a:off x="616644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7840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155000">
              <a:off x="620136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1332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155000">
              <a:off x="623628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482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155000">
              <a:off x="62712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8316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155000">
              <a:off x="630612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1808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155000">
              <a:off x="634176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54440" y="5886360"/>
              <a:ext cx="345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155000">
              <a:off x="6377400" y="6000840"/>
              <a:ext cx="18936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8936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155000">
              <a:off x="641160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522840" y="5886360"/>
              <a:ext cx="3600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6155000">
              <a:off x="6446520" y="6000120"/>
              <a:ext cx="18936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59200" y="5886360"/>
              <a:ext cx="3312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155000">
              <a:off x="6481440" y="6001560"/>
              <a:ext cx="18936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592680" y="5886360"/>
              <a:ext cx="36360" cy="3672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6155000">
              <a:off x="6516360" y="6000120"/>
              <a:ext cx="18936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659196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 rot="16155000">
              <a:off x="651420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655920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 rot="16155000">
              <a:off x="647964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652284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 rot="16155000">
              <a:off x="644472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489360" y="6112800"/>
              <a:ext cx="3312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 rot="16155000">
              <a:off x="6409800" y="6000840"/>
              <a:ext cx="190080" cy="3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4544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 rot="16155000">
              <a:off x="63756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418080" y="6112800"/>
              <a:ext cx="3600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 rot="16155000">
              <a:off x="6339960" y="5999400"/>
              <a:ext cx="190080" cy="3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8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 rot="16155000">
              <a:off x="630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348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 rot="16155000">
              <a:off x="6269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6313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 rot="16155000">
              <a:off x="6234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278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 rot="16155000">
              <a:off x="6199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6243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 rot="16155000">
              <a:off x="6164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6208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 rot="16155000">
              <a:off x="6129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173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 rot="16155000">
              <a:off x="6094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138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 rot="16155000">
              <a:off x="6059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6101280" y="6112800"/>
              <a:ext cx="363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 rot="16155000">
              <a:off x="6023520" y="5999400"/>
              <a:ext cx="190080" cy="3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 flipV="1">
              <a:off x="60670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 rot="16155000">
              <a:off x="59882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032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 rot="16155000">
              <a:off x="5953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59972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 flipV="1" rot="16155000">
              <a:off x="59184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59623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 rot="16155000">
              <a:off x="58834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592740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 flipV="1" rot="16155000">
              <a:off x="584856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 flipV="1">
              <a:off x="589248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 rot="16155000">
              <a:off x="581364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58575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 flipV="1" rot="16155000">
              <a:off x="57787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582264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 rot="16155000">
              <a:off x="574380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578772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 rot="16155000">
              <a:off x="570888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753160" y="6112800"/>
              <a:ext cx="34560" cy="363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 rot="16155000">
              <a:off x="5674320" y="6000120"/>
              <a:ext cx="190080" cy="3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6752520" y="5875200"/>
            <a:ext cx="423000" cy="263160"/>
            <a:chOff x="6752520" y="5875200"/>
            <a:chExt cx="423000" cy="263160"/>
          </a:xfrm>
        </p:grpSpPr>
        <p:sp>
          <p:nvSpPr>
            <p:cNvPr id="888" name=""/>
            <p:cNvSpPr/>
            <p:nvPr/>
          </p:nvSpPr>
          <p:spPr>
            <a:xfrm>
              <a:off x="69292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6155000">
              <a:off x="68533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645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6155000">
              <a:off x="68886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94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6155000">
              <a:off x="69235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344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155000">
              <a:off x="69584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69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6155000">
              <a:off x="6993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046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155000">
              <a:off x="70282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3916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6155000">
              <a:off x="706320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75468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6155000">
              <a:off x="667872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896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155000">
              <a:off x="67136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82452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155000">
              <a:off x="674856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859800" y="5875200"/>
              <a:ext cx="3420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155000">
              <a:off x="6783480" y="598968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94000" y="5875200"/>
              <a:ext cx="34920" cy="3780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155000">
              <a:off x="6818040" y="598932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71384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 rot="16155000">
              <a:off x="70614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71038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 rot="16155000">
              <a:off x="70264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7068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 rot="16155000">
              <a:off x="6991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70336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 rot="16155000">
              <a:off x="69566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9987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 rot="16155000">
              <a:off x="69217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696384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 rot="16155000">
              <a:off x="688680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69285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 rot="16155000">
              <a:off x="68515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8932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 rot="16155000">
              <a:off x="68162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6859080" y="6100920"/>
              <a:ext cx="3420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 rot="16155000">
              <a:off x="6781680" y="5989320"/>
              <a:ext cx="187200" cy="3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82380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 rot="16155000">
              <a:off x="674676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78888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 rot="16155000">
              <a:off x="671184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6753960" y="6100920"/>
              <a:ext cx="34920" cy="3744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 rot="16155000">
              <a:off x="6676920" y="5988960"/>
              <a:ext cx="187200" cy="3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5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56483"/>
                </a:path>
              </a:pathLst>
            </a:cu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958000" y="5470560"/>
            <a:ext cx="230040" cy="4935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53040" y="5462640"/>
            <a:ext cx="1573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84920" y="5462640"/>
            <a:ext cx="16812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e6e6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345360" y="5281560"/>
            <a:ext cx="458640" cy="890640"/>
          </a:xfrm>
          <a:prstGeom prst="can">
            <a:avLst>
              <a:gd name="adj" fmla="val 2037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421320" y="5479920"/>
            <a:ext cx="0" cy="65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50880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630840" y="5470560"/>
            <a:ext cx="0" cy="69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243480" y="5214960"/>
            <a:ext cx="638280" cy="330120"/>
          </a:xfrm>
          <a:prstGeom prst="can">
            <a:avLst>
              <a:gd name="adj" fmla="val 47500"/>
            </a:avLst>
          </a:prstGeom>
          <a:gradFill rotWithShape="0">
            <a:gsLst>
              <a:gs pos="0">
                <a:srgbClr val="6b6b6b"/>
              </a:gs>
              <a:gs pos="50000">
                <a:srgbClr val="eaeaea"/>
              </a:gs>
              <a:gs pos="100000">
                <a:srgbClr val="6b6b6b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72200" y="5532480"/>
            <a:ext cx="204840" cy="561960"/>
          </a:xfrm>
          <a:prstGeom prst="can">
            <a:avLst>
              <a:gd name="adj" fmla="val 10000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396120" y="5248440"/>
            <a:ext cx="358560" cy="648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52320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26160" y="5248440"/>
            <a:ext cx="0" cy="6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02200" y="5684760"/>
            <a:ext cx="35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724800" y="5533920"/>
            <a:ext cx="0" cy="61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7626240" y="2437200"/>
            <a:ext cx="761400" cy="843120"/>
            <a:chOff x="7626240" y="2437200"/>
            <a:chExt cx="761400" cy="843120"/>
          </a:xfrm>
        </p:grpSpPr>
        <p:sp>
          <p:nvSpPr>
            <p:cNvPr id="951" name=""/>
            <p:cNvSpPr/>
            <p:nvPr/>
          </p:nvSpPr>
          <p:spPr>
            <a:xfrm flipH="1" flipV="1">
              <a:off x="7937280" y="2439360"/>
              <a:ext cx="9720" cy="59832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8067240" y="2437200"/>
              <a:ext cx="9720" cy="5986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7756200" y="3038040"/>
              <a:ext cx="190440" cy="24228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76960" y="303624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89280" y="2989800"/>
              <a:ext cx="198360" cy="23616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7626240" y="2995200"/>
              <a:ext cx="190440" cy="242640"/>
            </a:xfrm>
            <a:prstGeom prst="line">
              <a:avLst/>
            </a:prstGeom>
            <a:ln w="3816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7162920" y="3386160"/>
            <a:ext cx="896760" cy="72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512120" y="315756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12120" y="4148280"/>
            <a:ext cx="198360" cy="195120"/>
          </a:xfrm>
          <a:prstGeom prst="hexagon">
            <a:avLst>
              <a:gd name="adj" fmla="val 25415"/>
              <a:gd name="vf" fmla="val 115470"/>
            </a:avLst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858000" y="4419720"/>
            <a:ext cx="91440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038120" y="5715000"/>
            <a:ext cx="12956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20336400">
            <a:off x="6151320" y="2971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抗体复合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48120" y="4745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活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414560" y="618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7162560" y="6019560"/>
            <a:ext cx="152280" cy="2286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344640" y="56419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37280" y="5562720"/>
            <a:ext cx="320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915160" y="5607000"/>
            <a:ext cx="380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5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84352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95800" y="54212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2164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三、自身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utoantige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正常情况下，机体对自身组织细胞不会产生免疫应答，即自身耐受。但在感染、外伤、服用某些药物等影响下，使隔离抗原释放，或改变和修饰了自身组织的抗原结构，诱发对自身抗原的应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95880" y="3733920"/>
            <a:ext cx="914400" cy="0"/>
          </a:xfrm>
          <a:prstGeom prst="line">
            <a:avLst/>
          </a:prstGeom>
          <a:ln w="2844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447920" y="2133720"/>
            <a:ext cx="2819160" cy="1130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血性链球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抗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258920" y="3860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链球菌感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419720" y="25909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19720" y="2362320"/>
            <a:ext cx="9903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27640" y="3213000"/>
            <a:ext cx="3124080" cy="1524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3280" y="3500280"/>
            <a:ext cx="29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急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小球肾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51840" y="5562720"/>
            <a:ext cx="1399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肠埃希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型脂多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33920" y="5997600"/>
            <a:ext cx="4572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395240" y="577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Times New Roman"/>
              </a:rPr>
              <a:t>结肠黏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00800" y="5562720"/>
            <a:ext cx="2438280" cy="914400"/>
          </a:xfrm>
          <a:custGeom>
            <a:avLst/>
            <a:gdLst>
              <a:gd name="textAreaLeft" fmla="*/ 556560 w 2438280"/>
              <a:gd name="textAreaRight" fmla="*/ 1881720 w 2438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溃疡性结肠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86400" y="2108160"/>
            <a:ext cx="261468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09e3"/>
                </a:solidFill>
                <a:latin typeface="Arial"/>
              </a:rPr>
              <a:t>肾小球基底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59280" y="4149720"/>
            <a:ext cx="1223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8082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、异嗜性抗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一类与种属无关的存在于人、动物、植物和微生物之间的共同抗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-184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五、肿瘤抗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特异性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只存在于某种特定肿瘤细胞表面的抗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309e3"/>
                </a:solidFill>
                <a:latin typeface="华文新魏"/>
                <a:ea typeface="华文新魏"/>
              </a:rPr>
              <a:t>肿瘤相关抗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指与某种肿瘤的发生有关，但不是该肿瘤细胞所特有的抗原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胚胎性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肿瘤有关的病毒抗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78920" y="3805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六、超抗原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需要极低浓度即可激活多克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，产生很强的免疫应答的抗原。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76120" y="1981080"/>
            <a:ext cx="4038840" cy="3170520"/>
            <a:chOff x="276120" y="1981080"/>
            <a:chExt cx="4038840" cy="3170520"/>
          </a:xfrm>
        </p:grpSpPr>
        <p:sp>
          <p:nvSpPr>
            <p:cNvPr id="991" name=""/>
            <p:cNvSpPr/>
            <p:nvPr/>
          </p:nvSpPr>
          <p:spPr>
            <a:xfrm>
              <a:off x="555480" y="19810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普通抗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5920" y="4535640"/>
              <a:ext cx="73944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2800" y="45356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5920" y="3668760"/>
              <a:ext cx="73944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2800" y="366876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0336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60600" y="367200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39068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447920" y="45482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52600" y="454824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09840" y="4548240"/>
              <a:ext cx="56844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394080" y="453564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451320" y="453564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1640" y="2814480"/>
              <a:ext cx="56844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71600" y="281952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5908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397320" y="28018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54560" y="28018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90760" y="2814480"/>
              <a:ext cx="739800" cy="60336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48000" y="2814480"/>
              <a:ext cx="568080" cy="49392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94080" y="3672000"/>
              <a:ext cx="739800" cy="603000"/>
            </a:xfrm>
            <a:prstGeom prst="ellipse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451320" y="367200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327320" y="3538440"/>
              <a:ext cx="879480" cy="876240"/>
            </a:xfrm>
            <a:prstGeom prst="ellipse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447920" y="3614760"/>
              <a:ext cx="568080" cy="49356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76120" y="2522520"/>
              <a:ext cx="403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85680" y="5327640"/>
            <a:ext cx="45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细胞克隆应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: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4861080" y="1989000"/>
            <a:ext cx="4101480" cy="4368600"/>
            <a:chOff x="4861080" y="1989000"/>
            <a:chExt cx="4101480" cy="4368600"/>
          </a:xfrm>
        </p:grpSpPr>
        <p:grpSp>
          <p:nvGrpSpPr>
            <p:cNvPr id="1019" name=""/>
            <p:cNvGrpSpPr/>
            <p:nvPr/>
          </p:nvGrpSpPr>
          <p:grpSpPr>
            <a:xfrm>
              <a:off x="4861080" y="1989000"/>
              <a:ext cx="4075560" cy="3301920"/>
              <a:chOff x="4861080" y="1989000"/>
              <a:chExt cx="4075560" cy="330192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5022720" y="2662200"/>
                <a:ext cx="3913920" cy="2628720"/>
                <a:chOff x="5022720" y="2662200"/>
                <a:chExt cx="3913920" cy="262872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8057520" y="2662200"/>
                  <a:ext cx="879120" cy="876240"/>
                  <a:chOff x="8057520" y="2662200"/>
                  <a:chExt cx="879120" cy="87624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8057520" y="26622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8177760" y="27381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5109840" y="3681360"/>
                  <a:ext cx="739440" cy="603360"/>
                  <a:chOff x="5109840" y="3681360"/>
                  <a:chExt cx="739440" cy="60336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5109840" y="368136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166360" y="368136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7127280" y="3684600"/>
                  <a:ext cx="739440" cy="603360"/>
                  <a:chOff x="7127280" y="3684600"/>
                  <a:chExt cx="739440" cy="6033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712728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18380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6114600" y="4560840"/>
                  <a:ext cx="739440" cy="603360"/>
                  <a:chOff x="6114600" y="4560840"/>
                  <a:chExt cx="739440" cy="6033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6114600" y="456084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6171120" y="456084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8118000" y="4548240"/>
                  <a:ext cx="739440" cy="603000"/>
                  <a:chOff x="8118000" y="4548240"/>
                  <a:chExt cx="739440" cy="6030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8118000" y="45482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8174520" y="45482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6125760" y="2814480"/>
                  <a:ext cx="739440" cy="603360"/>
                  <a:chOff x="6125760" y="2814480"/>
                  <a:chExt cx="739440" cy="6033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6125760" y="281448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182280" y="281448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7114680" y="2827440"/>
                  <a:ext cx="739440" cy="603000"/>
                  <a:chOff x="7114680" y="2827440"/>
                  <a:chExt cx="739440" cy="6030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7114680" y="2827440"/>
                    <a:ext cx="739440" cy="60300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171200" y="2827440"/>
                    <a:ext cx="568800" cy="49320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8118000" y="3684600"/>
                  <a:ext cx="739440" cy="603360"/>
                  <a:chOff x="8118000" y="3684600"/>
                  <a:chExt cx="739440" cy="6033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8118000" y="3684600"/>
                    <a:ext cx="739440" cy="603360"/>
                  </a:xfrm>
                  <a:prstGeom prst="ellipse">
                    <a:avLst/>
                  </a:prstGeom>
                  <a:solidFill>
                    <a:srgbClr val="cce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8174520" y="3684600"/>
                    <a:ext cx="568800" cy="49356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6051240" y="3525840"/>
                  <a:ext cx="879120" cy="876240"/>
                  <a:chOff x="6051240" y="3525840"/>
                  <a:chExt cx="879120" cy="87624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6051240" y="352584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171480" y="360180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7079760" y="4414680"/>
                  <a:ext cx="879120" cy="876240"/>
                  <a:chOff x="7079760" y="4414680"/>
                  <a:chExt cx="879120" cy="87624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707976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720000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5022720" y="2674800"/>
                  <a:ext cx="879120" cy="876240"/>
                  <a:chOff x="5022720" y="2674800"/>
                  <a:chExt cx="879120" cy="87624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5022720" y="267480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5142960" y="275076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5060520" y="4414680"/>
                  <a:ext cx="879120" cy="876240"/>
                  <a:chOff x="5060520" y="4414680"/>
                  <a:chExt cx="879120" cy="87624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5060520" y="4414680"/>
                    <a:ext cx="879120" cy="876240"/>
                  </a:xfrm>
                  <a:prstGeom prst="ellipse">
                    <a:avLst/>
                  </a:prstGeom>
                  <a:solidFill>
                    <a:srgbClr val="ffcc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180760" y="4490640"/>
                    <a:ext cx="568080" cy="493920"/>
                  </a:xfrm>
                  <a:prstGeom prst="ellipse">
                    <a:avLst/>
                  </a:pr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7" name=""/>
              <p:cNvSpPr/>
              <p:nvPr/>
            </p:nvSpPr>
            <p:spPr>
              <a:xfrm>
                <a:off x="5099040" y="1989000"/>
                <a:ext cx="35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超抗原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61080" y="2522520"/>
                <a:ext cx="4038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4924440" y="5341680"/>
              <a:ext cx="4038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多克隆应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4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～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457200"/>
            <a:ext cx="198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 Narrow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抗原 </a:t>
            </a:r>
            <a:r>
              <a:rPr b="1" lang="zh-CN" sz="3200" spc="-1" strike="noStrike">
                <a:solidFill>
                  <a:srgbClr val="ff3300"/>
                </a:solidFill>
                <a:latin typeface="Arial Narrow"/>
              </a:rPr>
              <a:t>(Ag)</a:t>
            </a:r>
            <a:r>
              <a:rPr b="0" lang="zh-CN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59080" y="838080"/>
            <a:ext cx="246240" cy="1368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83120" y="990720"/>
            <a:ext cx="245880" cy="134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67320" y="190512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973160"/>
            <a:ext cx="9828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18000" y="2109960"/>
            <a:ext cx="98280" cy="68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16280" y="1973160"/>
            <a:ext cx="98640" cy="68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607560" y="1767960"/>
            <a:ext cx="1304640" cy="1357560"/>
            <a:chOff x="3607560" y="1767960"/>
            <a:chExt cx="1304640" cy="1357560"/>
          </a:xfrm>
        </p:grpSpPr>
        <p:sp>
          <p:nvSpPr>
            <p:cNvPr id="54" name=""/>
            <p:cNvSpPr/>
            <p:nvPr/>
          </p:nvSpPr>
          <p:spPr>
            <a:xfrm rot="3280800">
              <a:off x="3726720" y="2025000"/>
              <a:ext cx="1066320" cy="84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539600" y="2862000"/>
              <a:ext cx="57240" cy="4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74520" y="872280"/>
            <a:ext cx="1314000" cy="1330560"/>
            <a:chOff x="3674520" y="872280"/>
            <a:chExt cx="1314000" cy="1330560"/>
          </a:xfrm>
        </p:grpSpPr>
        <p:sp>
          <p:nvSpPr>
            <p:cNvPr id="57" name=""/>
            <p:cNvSpPr/>
            <p:nvPr/>
          </p:nvSpPr>
          <p:spPr>
            <a:xfrm rot="2118000">
              <a:off x="3874320" y="1045800"/>
              <a:ext cx="913680" cy="98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681080" y="1768680"/>
              <a:ext cx="47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905120" y="1752480"/>
            <a:ext cx="2133360" cy="776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激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0120" y="6093000"/>
            <a:ext cx="1244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11880" y="5486400"/>
            <a:ext cx="2061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杀伤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35800" y="2514600"/>
            <a:ext cx="1133280" cy="1510560"/>
            <a:chOff x="3835800" y="2514600"/>
            <a:chExt cx="1133280" cy="1510560"/>
          </a:xfrm>
        </p:grpSpPr>
        <p:sp>
          <p:nvSpPr>
            <p:cNvPr id="63" name=""/>
            <p:cNvSpPr/>
            <p:nvPr/>
          </p:nvSpPr>
          <p:spPr>
            <a:xfrm flipV="1" rot="21561600">
              <a:off x="4422240" y="3113280"/>
              <a:ext cx="360" cy="28548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21561600">
              <a:off x="4343400" y="3102480"/>
              <a:ext cx="36000" cy="30276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21561600">
              <a:off x="4288320" y="2839320"/>
              <a:ext cx="9468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21561600">
              <a:off x="4388040" y="2839320"/>
              <a:ext cx="96840" cy="14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21561600">
              <a:off x="4385520" y="2974320"/>
              <a:ext cx="96840" cy="14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21561600">
              <a:off x="4286160" y="2982960"/>
              <a:ext cx="943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5361600">
              <a:off x="4341960" y="3274200"/>
              <a:ext cx="451800" cy="795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892200">
              <a:off x="3933000" y="2620080"/>
              <a:ext cx="938520" cy="880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609200">
              <a:off x="4621320" y="2692800"/>
              <a:ext cx="147600" cy="957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032360" y="3263040"/>
              <a:ext cx="771120" cy="7621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123080" y="3334680"/>
              <a:ext cx="537840" cy="51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325760" y="2805480"/>
              <a:ext cx="119160" cy="687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271320" y="3855960"/>
            <a:ext cx="760680" cy="4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118960" y="3204000"/>
            <a:ext cx="1258920" cy="1719720"/>
            <a:chOff x="2118960" y="3204000"/>
            <a:chExt cx="1258920" cy="1719720"/>
          </a:xfrm>
        </p:grpSpPr>
        <p:sp>
          <p:nvSpPr>
            <p:cNvPr id="77" name=""/>
            <p:cNvSpPr/>
            <p:nvPr/>
          </p:nvSpPr>
          <p:spPr>
            <a:xfrm flipV="1" rot="21561600">
              <a:off x="2773080" y="3882240"/>
              <a:ext cx="360" cy="32544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 rot="21561600">
              <a:off x="2684880" y="3868560"/>
              <a:ext cx="38520" cy="345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 rot="21561600">
              <a:off x="2625120" y="3567240"/>
              <a:ext cx="1036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1561600">
              <a:off x="2736000" y="3567240"/>
              <a:ext cx="1054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21561600">
              <a:off x="2732400" y="3720960"/>
              <a:ext cx="107280" cy="16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21561600">
              <a:off x="2623320" y="3731040"/>
              <a:ext cx="103680" cy="16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 rot="5361600">
              <a:off x="2674440" y="4066200"/>
              <a:ext cx="517320" cy="8820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892200">
              <a:off x="2230560" y="3319920"/>
              <a:ext cx="103500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7609200">
              <a:off x="2987280" y="3402000"/>
              <a:ext cx="169560" cy="10548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2341440" y="4051800"/>
              <a:ext cx="848880" cy="871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2443680" y="4146840"/>
              <a:ext cx="573840" cy="40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24062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745000" y="472968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2913840" y="4535640"/>
              <a:ext cx="103680" cy="972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61600" y="3796920"/>
            <a:ext cx="1550520" cy="1373760"/>
            <a:chOff x="561600" y="3796920"/>
            <a:chExt cx="1550520" cy="1373760"/>
          </a:xfrm>
        </p:grpSpPr>
        <p:sp>
          <p:nvSpPr>
            <p:cNvPr id="92" name=""/>
            <p:cNvSpPr/>
            <p:nvPr/>
          </p:nvSpPr>
          <p:spPr>
            <a:xfrm flipV="1" rot="16161600">
              <a:off x="1348200" y="4319640"/>
              <a:ext cx="360" cy="282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64"/>
                    <a:pt x="0" y="128"/>
                    <a:pt x="0" y="19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 rot="16161600">
              <a:off x="1324080" y="4387320"/>
              <a:ext cx="44280" cy="3006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cubicBezTo>
                    <a:pt x="0" y="70"/>
                    <a:pt x="0" y="141"/>
                    <a:pt x="0" y="2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 rot="16161600">
              <a:off x="945360" y="4497480"/>
              <a:ext cx="1191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 rot="16161600">
              <a:off x="944280" y="4369680"/>
              <a:ext cx="12096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 rot="16161600">
              <a:off x="1076760" y="4372560"/>
              <a:ext cx="123120" cy="14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 rot="16161600">
              <a:off x="1088280" y="4499280"/>
              <a:ext cx="1191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759e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 rot="21561600">
              <a:off x="1180080" y="4223880"/>
              <a:ext cx="449640" cy="101160"/>
            </a:xfrm>
            <a:prstGeom prst="flowChartOnlineStorage">
              <a:avLst/>
            </a:prstGeom>
            <a:solidFill>
              <a:srgbClr val="ff77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7092200">
              <a:off x="542520" y="4045680"/>
              <a:ext cx="1189080" cy="87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36" y="1527"/>
                  </a:moveTo>
                  <a:arcTo wR="10800" hR="10800" stAng="-3549669" swAng="5947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36" y="1527"/>
                  </a:moveTo>
                  <a:arcTo wR="10800" hR="10800" stAng="-3549669" swAng="594715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209200">
              <a:off x="761760" y="4054680"/>
              <a:ext cx="147240" cy="12096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48"/>
                  </a:moveTo>
                  <a:lnTo>
                    <a:pt x="48" y="0"/>
                  </a:lnTo>
                  <a:lnTo>
                    <a:pt x="96" y="4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1245600" y="4088160"/>
              <a:ext cx="974880" cy="757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1281240" y="4334040"/>
              <a:ext cx="659160" cy="34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d9bc9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1757160" y="47786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1926000" y="438984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1757160" y="4195800"/>
              <a:ext cx="119160" cy="842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849400" y="5021280"/>
            <a:ext cx="338400" cy="38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57720" y="292320"/>
            <a:ext cx="1648080" cy="1649520"/>
            <a:chOff x="4257720" y="292320"/>
            <a:chExt cx="1648080" cy="1649520"/>
          </a:xfrm>
        </p:grpSpPr>
        <p:sp>
          <p:nvSpPr>
            <p:cNvPr id="108" name=""/>
            <p:cNvSpPr/>
            <p:nvPr/>
          </p:nvSpPr>
          <p:spPr>
            <a:xfrm rot="18916200">
              <a:off x="4548600" y="484200"/>
              <a:ext cx="1066320" cy="126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4120" y="704520"/>
              <a:ext cx="738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11720" y="9907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5934600" y="2370960"/>
            <a:ext cx="695160" cy="1135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5765040" y="2723400"/>
            <a:ext cx="41760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202440" y="2781360"/>
            <a:ext cx="228600" cy="304560"/>
            <a:chOff x="6202440" y="2781360"/>
            <a:chExt cx="228600" cy="304560"/>
          </a:xfrm>
        </p:grpSpPr>
        <p:sp>
          <p:nvSpPr>
            <p:cNvPr id="115" name=""/>
            <p:cNvSpPr/>
            <p:nvPr/>
          </p:nvSpPr>
          <p:spPr>
            <a:xfrm>
              <a:off x="6202440" y="2781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202440" y="2857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354720" y="2762280"/>
            <a:ext cx="228600" cy="304560"/>
            <a:chOff x="6354720" y="2762280"/>
            <a:chExt cx="228600" cy="304560"/>
          </a:xfrm>
        </p:grpSpPr>
        <p:sp>
          <p:nvSpPr>
            <p:cNvPr id="118" name=""/>
            <p:cNvSpPr/>
            <p:nvPr/>
          </p:nvSpPr>
          <p:spPr>
            <a:xfrm>
              <a:off x="635472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5472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507000" y="2762280"/>
            <a:ext cx="228600" cy="304560"/>
            <a:chOff x="6507000" y="2762280"/>
            <a:chExt cx="228600" cy="304560"/>
          </a:xfrm>
        </p:grpSpPr>
        <p:sp>
          <p:nvSpPr>
            <p:cNvPr id="121" name=""/>
            <p:cNvSpPr/>
            <p:nvPr/>
          </p:nvSpPr>
          <p:spPr>
            <a:xfrm>
              <a:off x="6507000" y="27622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507000" y="28382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5720" y="1371600"/>
            <a:ext cx="1447560" cy="2819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762120"/>
            <a:ext cx="1828800" cy="1117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结合，诱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释放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65720" y="5562720"/>
            <a:ext cx="1460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41400" y="3427560"/>
            <a:ext cx="167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36680" y="5521320"/>
            <a:ext cx="607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600520" y="4267080"/>
            <a:ext cx="190800" cy="228240"/>
            <a:chOff x="5600520" y="4267080"/>
            <a:chExt cx="190800" cy="228240"/>
          </a:xfrm>
        </p:grpSpPr>
        <p:sp>
          <p:nvSpPr>
            <p:cNvPr id="129" name=""/>
            <p:cNvSpPr/>
            <p:nvPr/>
          </p:nvSpPr>
          <p:spPr>
            <a:xfrm>
              <a:off x="571500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36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60052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410440" y="4495680"/>
            <a:ext cx="190800" cy="228240"/>
            <a:chOff x="5410440" y="4495680"/>
            <a:chExt cx="190800" cy="228240"/>
          </a:xfrm>
        </p:grpSpPr>
        <p:sp>
          <p:nvSpPr>
            <p:cNvPr id="134" name=""/>
            <p:cNvSpPr/>
            <p:nvPr/>
          </p:nvSpPr>
          <p:spPr>
            <a:xfrm>
              <a:off x="552492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86760" y="44956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25280" y="46476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410440" y="46476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857640" y="4267080"/>
            <a:ext cx="190800" cy="228240"/>
            <a:chOff x="6857640" y="4267080"/>
            <a:chExt cx="190800" cy="228240"/>
          </a:xfrm>
        </p:grpSpPr>
        <p:sp>
          <p:nvSpPr>
            <p:cNvPr id="139" name=""/>
            <p:cNvSpPr/>
            <p:nvPr/>
          </p:nvSpPr>
          <p:spPr>
            <a:xfrm>
              <a:off x="69721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39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724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8576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943240" y="4114800"/>
            <a:ext cx="190800" cy="228240"/>
            <a:chOff x="5943240" y="4114800"/>
            <a:chExt cx="190800" cy="228240"/>
          </a:xfrm>
        </p:grpSpPr>
        <p:sp>
          <p:nvSpPr>
            <p:cNvPr id="144" name=""/>
            <p:cNvSpPr/>
            <p:nvPr/>
          </p:nvSpPr>
          <p:spPr>
            <a:xfrm>
              <a:off x="60577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5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80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9432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629040" y="4114800"/>
            <a:ext cx="190800" cy="228240"/>
            <a:chOff x="6629040" y="4114800"/>
            <a:chExt cx="190800" cy="228240"/>
          </a:xfrm>
        </p:grpSpPr>
        <p:sp>
          <p:nvSpPr>
            <p:cNvPr id="149" name=""/>
            <p:cNvSpPr/>
            <p:nvPr/>
          </p:nvSpPr>
          <p:spPr>
            <a:xfrm>
              <a:off x="674352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05360" y="41148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43880" y="42667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29040" y="42667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096240" y="4267080"/>
            <a:ext cx="190800" cy="228240"/>
            <a:chOff x="6096240" y="4267080"/>
            <a:chExt cx="190800" cy="228240"/>
          </a:xfrm>
        </p:grpSpPr>
        <p:sp>
          <p:nvSpPr>
            <p:cNvPr id="154" name=""/>
            <p:cNvSpPr/>
            <p:nvPr/>
          </p:nvSpPr>
          <p:spPr>
            <a:xfrm>
              <a:off x="621072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2560" y="42670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11080" y="44190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096240" y="44190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943240" y="4572000"/>
            <a:ext cx="190800" cy="228240"/>
            <a:chOff x="5943240" y="4572000"/>
            <a:chExt cx="190800" cy="228240"/>
          </a:xfrm>
        </p:grpSpPr>
        <p:sp>
          <p:nvSpPr>
            <p:cNvPr id="159" name=""/>
            <p:cNvSpPr/>
            <p:nvPr/>
          </p:nvSpPr>
          <p:spPr>
            <a:xfrm>
              <a:off x="60577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580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59432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400440" y="4572000"/>
            <a:ext cx="190800" cy="228240"/>
            <a:chOff x="6400440" y="4572000"/>
            <a:chExt cx="190800" cy="228240"/>
          </a:xfrm>
        </p:grpSpPr>
        <p:sp>
          <p:nvSpPr>
            <p:cNvPr id="164" name=""/>
            <p:cNvSpPr/>
            <p:nvPr/>
          </p:nvSpPr>
          <p:spPr>
            <a:xfrm>
              <a:off x="651492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67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528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40044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553440" y="4724280"/>
            <a:ext cx="190800" cy="228240"/>
            <a:chOff x="6553440" y="4724280"/>
            <a:chExt cx="190800" cy="228240"/>
          </a:xfrm>
        </p:grpSpPr>
        <p:sp>
          <p:nvSpPr>
            <p:cNvPr id="169" name=""/>
            <p:cNvSpPr/>
            <p:nvPr/>
          </p:nvSpPr>
          <p:spPr>
            <a:xfrm>
              <a:off x="666792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9760" y="47242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68280" y="48762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553440" y="48762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705360" y="4876920"/>
            <a:ext cx="190800" cy="228240"/>
            <a:chOff x="6705360" y="4876920"/>
            <a:chExt cx="190800" cy="228240"/>
          </a:xfrm>
        </p:grpSpPr>
        <p:sp>
          <p:nvSpPr>
            <p:cNvPr id="174" name=""/>
            <p:cNvSpPr/>
            <p:nvPr/>
          </p:nvSpPr>
          <p:spPr>
            <a:xfrm>
              <a:off x="681984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48769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0200" y="50288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705360" y="50288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52800" y="4419720"/>
            <a:ext cx="190800" cy="228240"/>
            <a:chOff x="5752800" y="4419720"/>
            <a:chExt cx="190800" cy="228240"/>
          </a:xfrm>
        </p:grpSpPr>
        <p:sp>
          <p:nvSpPr>
            <p:cNvPr id="179" name=""/>
            <p:cNvSpPr/>
            <p:nvPr/>
          </p:nvSpPr>
          <p:spPr>
            <a:xfrm>
              <a:off x="586728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29120" y="44197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640" y="45716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75280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05080" y="5105520"/>
            <a:ext cx="190800" cy="228240"/>
            <a:chOff x="5905080" y="5105520"/>
            <a:chExt cx="190800" cy="228240"/>
          </a:xfrm>
        </p:grpSpPr>
        <p:sp>
          <p:nvSpPr>
            <p:cNvPr id="184" name=""/>
            <p:cNvSpPr/>
            <p:nvPr/>
          </p:nvSpPr>
          <p:spPr>
            <a:xfrm>
              <a:off x="601956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1400" y="510552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19920" y="525744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905080" y="5257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62360" y="4800600"/>
            <a:ext cx="190800" cy="228240"/>
            <a:chOff x="5562360" y="4800600"/>
            <a:chExt cx="190800" cy="228240"/>
          </a:xfrm>
        </p:grpSpPr>
        <p:sp>
          <p:nvSpPr>
            <p:cNvPr id="189" name=""/>
            <p:cNvSpPr/>
            <p:nvPr/>
          </p:nvSpPr>
          <p:spPr>
            <a:xfrm>
              <a:off x="567684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38680" y="48006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77200" y="49525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562360" y="49525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057720" y="4952880"/>
            <a:ext cx="190800" cy="228240"/>
            <a:chOff x="6057720" y="4952880"/>
            <a:chExt cx="190800" cy="228240"/>
          </a:xfrm>
        </p:grpSpPr>
        <p:sp>
          <p:nvSpPr>
            <p:cNvPr id="194" name=""/>
            <p:cNvSpPr/>
            <p:nvPr/>
          </p:nvSpPr>
          <p:spPr>
            <a:xfrm>
              <a:off x="617220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34040" y="495288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560" y="510480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057720" y="510480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905080" y="4572000"/>
            <a:ext cx="190800" cy="228240"/>
            <a:chOff x="5905080" y="4572000"/>
            <a:chExt cx="190800" cy="228240"/>
          </a:xfrm>
        </p:grpSpPr>
        <p:sp>
          <p:nvSpPr>
            <p:cNvPr id="199" name=""/>
            <p:cNvSpPr/>
            <p:nvPr/>
          </p:nvSpPr>
          <p:spPr>
            <a:xfrm>
              <a:off x="601956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81400" y="457200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472392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905080" y="472392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5400000">
            <a:off x="7907040" y="4335480"/>
            <a:ext cx="695160" cy="7081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7963920" y="4473360"/>
            <a:ext cx="486000" cy="476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731000" y="4616640"/>
            <a:ext cx="269280" cy="190800"/>
            <a:chOff x="7731000" y="4616640"/>
            <a:chExt cx="269280" cy="190800"/>
          </a:xfrm>
        </p:grpSpPr>
        <p:sp>
          <p:nvSpPr>
            <p:cNvPr id="206" name=""/>
            <p:cNvSpPr/>
            <p:nvPr/>
          </p:nvSpPr>
          <p:spPr>
            <a:xfrm flipH="1">
              <a:off x="7820640" y="473112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820640" y="4692960"/>
              <a:ext cx="179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731000" y="4731480"/>
              <a:ext cx="9000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731000" y="4616640"/>
              <a:ext cx="9000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534520" y="4571640"/>
            <a:ext cx="228240" cy="190800"/>
            <a:chOff x="8534520" y="4571640"/>
            <a:chExt cx="228240" cy="190800"/>
          </a:xfrm>
        </p:grpSpPr>
        <p:sp>
          <p:nvSpPr>
            <p:cNvPr id="211" name=""/>
            <p:cNvSpPr/>
            <p:nvPr/>
          </p:nvSpPr>
          <p:spPr>
            <a:xfrm>
              <a:off x="8534520" y="46861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34520" y="46479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86440" y="46864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8686440" y="45716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8229240" y="4971960"/>
            <a:ext cx="190800" cy="228240"/>
            <a:chOff x="8229240" y="4971960"/>
            <a:chExt cx="190800" cy="228240"/>
          </a:xfrm>
        </p:grpSpPr>
        <p:sp>
          <p:nvSpPr>
            <p:cNvPr id="216" name=""/>
            <p:cNvSpPr/>
            <p:nvPr/>
          </p:nvSpPr>
          <p:spPr>
            <a:xfrm>
              <a:off x="834372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05560" y="4971960"/>
              <a:ext cx="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4080" y="5123880"/>
              <a:ext cx="7596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229240" y="512388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5400000">
            <a:off x="6150600" y="429120"/>
            <a:ext cx="695520" cy="5983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6215040" y="549000"/>
            <a:ext cx="485640" cy="403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43600" y="685440"/>
            <a:ext cx="228240" cy="190800"/>
            <a:chOff x="5943600" y="685440"/>
            <a:chExt cx="228240" cy="190800"/>
          </a:xfrm>
        </p:grpSpPr>
        <p:sp>
          <p:nvSpPr>
            <p:cNvPr id="223" name=""/>
            <p:cNvSpPr/>
            <p:nvPr/>
          </p:nvSpPr>
          <p:spPr>
            <a:xfrm flipH="1">
              <a:off x="6019560" y="79992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019560" y="761760"/>
              <a:ext cx="152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943600" y="800280"/>
              <a:ext cx="76320" cy="75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5943600" y="685440"/>
              <a:ext cx="76320" cy="76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5791320" y="83988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55080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21400" y="762120"/>
            <a:ext cx="245880" cy="136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5105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304920"/>
            <a:ext cx="0" cy="6248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、抗原的基本特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一）免疫原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immuno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指抗原能够刺激机体发生免疫应答、产生抗体或效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的特性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（二）免疫反应性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ntigenicit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在体内外与相应抗体或效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细胞发生特异性结合的特性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333080" y="1572840"/>
            <a:ext cx="216000" cy="24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59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节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决定抗原免疫原性的条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、异物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异物性是构成抗原免疫原性的首要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异种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种异体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身抗原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11280" y="333360"/>
            <a:ext cx="4248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理化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53440" y="21337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3080" y="3048120"/>
            <a:ext cx="15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0960" y="3998880"/>
            <a:ext cx="14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1628640"/>
            <a:ext cx="3124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2889360"/>
            <a:ext cx="336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4005360"/>
            <a:ext cx="295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弱免疫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762120"/>
            <a:ext cx="1676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子量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1371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2057400"/>
            <a:ext cx="2743200" cy="682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决定基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原分子结构复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971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4419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91400" y="365760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易被降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5105520"/>
            <a:ext cx="280008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持续刺激免疫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457200"/>
            <a:ext cx="72392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二）一定的化学组成和结构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复杂的化学组成与特殊的化学基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胶分子（分子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2788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32240" y="2743200"/>
            <a:ext cx="228600" cy="0"/>
          </a:xfrm>
          <a:prstGeom prst="line">
            <a:avLst/>
          </a:prstGeom>
          <a:ln w="9360">
            <a:solidFill>
              <a:srgbClr val="130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19320" y="3276720"/>
            <a:ext cx="7086600" cy="2425320"/>
            <a:chOff x="1219320" y="3276720"/>
            <a:chExt cx="7086600" cy="2425320"/>
          </a:xfrm>
        </p:grpSpPr>
        <p:sp>
          <p:nvSpPr>
            <p:cNvPr id="255" name=""/>
            <p:cNvSpPr/>
            <p:nvPr/>
          </p:nvSpPr>
          <p:spPr>
            <a:xfrm>
              <a:off x="259092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90800" y="4431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直链氨基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10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5248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9928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94360" y="403848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89440" y="39621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52788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0840" y="3733560"/>
              <a:ext cx="0" cy="456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0840" y="3276720"/>
              <a:ext cx="1067040" cy="914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8016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03640" y="3581280"/>
              <a:ext cx="304920" cy="304200"/>
            </a:xfrm>
            <a:prstGeom prst="hexagon">
              <a:avLst>
                <a:gd name="adj" fmla="val 25059"/>
                <a:gd name="vf" fmla="val 115470"/>
              </a:avLst>
            </a:prstGeom>
            <a:solidFill>
              <a:srgbClr val="ffffff"/>
            </a:solidFill>
            <a:ln w="28440">
              <a:solidFill>
                <a:srgbClr val="130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89040" y="457164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加苯环氨基酸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酪氨酸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9320" y="51814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很弱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8320" y="518148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免疫原性大大增强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11280" y="35712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分子构象与易接近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5105520"/>
            <a:ext cx="304920" cy="30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5029200"/>
            <a:ext cx="228600" cy="53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5181480"/>
            <a:ext cx="91440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438280" y="1143000"/>
            <a:ext cx="1682640" cy="2957400"/>
            <a:chOff x="2438280" y="1143000"/>
            <a:chExt cx="1682640" cy="2957400"/>
          </a:xfrm>
        </p:grpSpPr>
        <p:sp>
          <p:nvSpPr>
            <p:cNvPr id="279" name=""/>
            <p:cNvSpPr/>
            <p:nvPr/>
          </p:nvSpPr>
          <p:spPr>
            <a:xfrm>
              <a:off x="28080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300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080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8000" y="114300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3000" y="340812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4300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38280" y="2541600"/>
              <a:ext cx="1682640" cy="174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1480" y="1849320"/>
              <a:ext cx="203040" cy="6922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78080" y="1849320"/>
              <a:ext cx="203040" cy="692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16120" y="1849320"/>
              <a:ext cx="201600" cy="692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93760" y="2716200"/>
              <a:ext cx="201600" cy="691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47640" y="2716200"/>
              <a:ext cx="201600" cy="691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12720" y="387036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12720" y="3408120"/>
              <a:ext cx="2700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2720" y="363852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81200" y="1373040"/>
              <a:ext cx="27000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81200" y="1604880"/>
              <a:ext cx="27000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1200" y="114300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44600" y="1619280"/>
              <a:ext cx="2700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4600" y="1157040"/>
              <a:ext cx="27000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44600" y="1387440"/>
              <a:ext cx="2700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343400" y="1143000"/>
            <a:ext cx="1682640" cy="2971800"/>
            <a:chOff x="4343400" y="1143000"/>
            <a:chExt cx="1682640" cy="2971800"/>
          </a:xfrm>
        </p:grpSpPr>
        <p:sp>
          <p:nvSpPr>
            <p:cNvPr id="301" name=""/>
            <p:cNvSpPr/>
            <p:nvPr/>
          </p:nvSpPr>
          <p:spPr>
            <a:xfrm>
              <a:off x="4343400" y="2541600"/>
              <a:ext cx="1682640" cy="174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964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964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7964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16240" y="2066760"/>
              <a:ext cx="2678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16240" y="2297160"/>
              <a:ext cx="2678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16240" y="1834920"/>
              <a:ext cx="2678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868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68680" y="229716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68680" y="1834920"/>
              <a:ext cx="26964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0480" y="3176640"/>
              <a:ext cx="26964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30480" y="2716200"/>
              <a:ext cx="26964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0480" y="2946240"/>
              <a:ext cx="26964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00560" y="2946240"/>
              <a:ext cx="26928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00560" y="3176640"/>
              <a:ext cx="26928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00560" y="2716200"/>
              <a:ext cx="26928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8960" y="1143000"/>
              <a:ext cx="202680" cy="691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67000" y="1143000"/>
              <a:ext cx="201240" cy="6919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403600" y="1143000"/>
              <a:ext cx="201240" cy="691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63960" y="3422520"/>
              <a:ext cx="202680" cy="6922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35480" y="3422520"/>
              <a:ext cx="201240" cy="6922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324480" y="1143000"/>
            <a:ext cx="2490840" cy="2971800"/>
            <a:chOff x="6324480" y="1143000"/>
            <a:chExt cx="2490840" cy="2971800"/>
          </a:xfrm>
        </p:grpSpPr>
        <p:sp>
          <p:nvSpPr>
            <p:cNvPr id="323" name=""/>
            <p:cNvSpPr/>
            <p:nvPr/>
          </p:nvSpPr>
          <p:spPr>
            <a:xfrm>
              <a:off x="6324480" y="2541600"/>
              <a:ext cx="2490840" cy="174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94480" y="229716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94480" y="1834920"/>
              <a:ext cx="26820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94480" y="206676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17000" y="206676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7000" y="229716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17000" y="1834920"/>
              <a:ext cx="269640" cy="23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75520" y="2066760"/>
              <a:ext cx="26856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75520" y="2297160"/>
              <a:ext cx="26856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75520" y="1834920"/>
              <a:ext cx="268560" cy="231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43800" y="1143000"/>
              <a:ext cx="203040" cy="6919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67760" y="1143000"/>
              <a:ext cx="201600" cy="6919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09000" y="1143000"/>
              <a:ext cx="201600" cy="6919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1080" y="3176640"/>
              <a:ext cx="268200" cy="231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31080" y="2716200"/>
              <a:ext cx="268200" cy="230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31080" y="2946240"/>
              <a:ext cx="268200" cy="230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05880" y="2946240"/>
              <a:ext cx="269640" cy="230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05880" y="3176640"/>
              <a:ext cx="269640" cy="23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05880" y="2716200"/>
              <a:ext cx="269640" cy="230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0400" y="3422520"/>
              <a:ext cx="203040" cy="6922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39000" y="3422520"/>
              <a:ext cx="201600" cy="6922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992160" y="425916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体反应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98880" y="41911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99280" y="562284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酪氨酸       多聚丙氨酸        谷氨酸     多聚赖氨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19360" y="426708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、机体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遗传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年龄、性别、生理及免疫功能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4:31:33Z</dcterms:created>
  <dc:creator>韩梅</dc:creator>
  <dc:description/>
  <dc:language>en-US</dc:language>
  <cp:lastModifiedBy>微软用户</cp:lastModifiedBy>
  <dcterms:modified xsi:type="dcterms:W3CDTF">2014-04-16T17:26:00Z</dcterms:modified>
  <cp:revision>132</cp:revision>
  <dc:subject/>
  <dc:title>第二章：抗  原 </dc:title>
</cp:coreProperties>
</file>