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9B89-A7AA-4C34-93B0-330F49C2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FE13-331B-4094-B97C-B45D876A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ED9E-001C-480D-A5F0-714829F7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3522-AEF0-462F-B85E-7B723195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8FD9-AF3F-42C3-8A40-35D01D99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BCB80-B431-4161-B9CA-BA069B9CC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C2F6D-0159-4CC2-8E0F-855A4C99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A2B97-E2F6-4933-B786-917FAD45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47E16-73A9-4D6D-850C-BF0DDD3B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6BC1C-D555-40C0-8AF2-EC20356F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C881-B793-4592-82BF-59ABED63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22D2A-0567-458F-A539-E49C0036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9C615-2BBC-4CAD-B618-5C498B86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F100B-2B23-4F71-B9BF-7D2069A1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45EA7-CADE-4769-8310-49A74A59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E9C9B-F6FE-4AB2-973A-5C75EF8A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111EA-D1EB-490A-8064-502D3D98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9568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29600" y="1447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176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9568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29600" y="407484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28FB0-DFF5-403D-89F8-CCECAE616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0232-32E4-4441-B1DE-BEC63A0B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B898-7DE3-4854-9AB3-A7820898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579240"/>
            <a:ext cx="54104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D5FE-566F-4D7E-804D-546FD79C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3184-13A4-434A-8B0A-192B2D4D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40748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0894-8978-47B8-846B-D3235AA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570240"/>
            <a:ext cx="5410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1447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407484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4A42-D0D4-4ED4-9A9C-190BE72E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7EA-BBB7-4882-91EE-C432BAD38A78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601956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dddddd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3851280" y="3500280"/>
            <a:ext cx="1582560" cy="1582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dddddd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497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6176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76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24b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24b9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24b9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24b98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46C-7730-4170-8087-FBFC8EDCCC39}" type="slidenum">
              <a:rPr b="0" lang="zh-CN" sz="1000" spc="-1" strike="noStrike">
                <a:solidFill>
                  <a:srgbClr val="124b9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5"/>
          </p:nvPr>
        </p:nvSpPr>
        <p:spPr>
          <a:xfrm>
            <a:off x="5409720" y="304920"/>
            <a:ext cx="26672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3505320" y="685800"/>
            <a:ext cx="54115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4b98"/>
                </a:solidFill>
                <a:latin typeface="Arial"/>
                <a:ea typeface="宋体"/>
              </a:rPr>
              <a:t>病原生物学与免疫学</a:t>
            </a:r>
            <a:endParaRPr b="0" lang="en-US" sz="4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主    编  陆予云  汪晓静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副主编  孙庶强  李    睿  郝   燕</a:t>
            </a:r>
            <a:br>
              <a:rPr sz="2400"/>
            </a:b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编    委  曹美香  李旭文  李福玲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梅    蕾   魏桂芬 万巧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杨冬华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124b98"/>
                </a:solidFill>
                <a:latin typeface="Arial"/>
                <a:ea typeface="宋体"/>
              </a:rPr>
              <a:t>北京大学医学出版社</a:t>
            </a:r>
            <a:endParaRPr b="0" lang="en-US" sz="24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70800" y="2133720"/>
            <a:ext cx="4533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微生物的分布及与人类的关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医学微生物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经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实验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现代微生物学时期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28600" y="1639800"/>
            <a:ext cx="89154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人体寄生虫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人体寄生虫学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人体寄生虫学是研究人体寄生虫的形态结构、生长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繁殖规律、致病机制、实验诊断、流行规律和防治原则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科学。人体寄生虫包括医学原虫、医学蠕虫和医学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肢动物三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蠕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原虫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医学节肢动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（二）人体寄生虫学的发展与现状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学习目标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解释免疫的概念与功能；解释微生物、病原微生物、寄生虫的概念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说出免疫的类型；说出微生物、寄生虫的分类及其类型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c9a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．知道免疫学、医学微生物学与人体寄生虫学的发展与现状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00200" y="5715000"/>
            <a:ext cx="632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95080" y="1676520"/>
            <a:ext cx="6201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免疫的概念与功能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免疫的概念  免疫是机体免疫系统识别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自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非己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性异物，并通过免疫应答排除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性异物，以维持机体生理功能平衡与稳定的功能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免疫的功能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防御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稳定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监视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5920" y="1793880"/>
            <a:ext cx="958428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124b98"/>
                </a:solidFill>
                <a:latin typeface="Arial"/>
                <a:ea typeface="宋体"/>
              </a:rPr>
              <a:t>免疫的功能及其表现</a:t>
            </a:r>
            <a:endParaRPr b="0" lang="en-US" sz="32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功能     正常表现（有利）         异常表现 （有害）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4b98"/>
                </a:solidFill>
                <a:latin typeface="Arial"/>
                <a:ea typeface="宋体"/>
              </a:rPr>
              <a:t>------------------------------------------------------------------------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防御     抵抗病原生物入侵        过高：超敏反应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过低：免疫缺陷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稳定     清除衰老、损伤细胞    自身免疫病                 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宋体"/>
              </a:rPr>
              <a:t>免疫监视     清除突变细胞               恶性肿瘤</a:t>
            </a:r>
            <a:r>
              <a:rPr b="0" lang="zh-CN" sz="1800" spc="-1" strike="noStrike">
                <a:solidFill>
                  <a:srgbClr val="124b98"/>
                </a:solidFill>
                <a:latin typeface="Arial"/>
                <a:ea typeface="宋体"/>
              </a:rPr>
              <a:t>                       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b98"/>
                </a:solidFill>
                <a:latin typeface="Arial"/>
                <a:ea typeface="宋体"/>
              </a:rPr>
              <a:t>____________________________________________________________________</a:t>
            </a: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579240"/>
            <a:ext cx="5410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723680" y="1828800"/>
            <a:ext cx="60332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免疫的类型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固有免疫  又称非特异性免疫或先天性免疫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是人类在长期的种系发生和进化过程中与微生物接触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逐渐建立起来的防御功能。特点：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生来就有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可以遗传，相对稳定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无特异性，对各种抗原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异物可迅速应答，产生非特异性的抗感染免疫作用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0" y="1828800"/>
            <a:ext cx="177260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适应性免疫 又称特异性免疫或获得性免疫。是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指人出生后，在后天生活过程中与抗原性物质接触后产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的免疫。特点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是机体后天生活过程中受抗原物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质刺激产生；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作用特异性，即只对刺激产生该免疫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的抗原物质发生作用。适应性免疫是在固有免疫的基础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上建交起来的，主要通过抗体和效应淋巴细胞而发挥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液免疫和细胞免疫作用（见第四章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免疫应答</a:t>
            </a:r>
            <a:r>
              <a:rPr b="1" lang="zh-CN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5"/>
          <p:cNvSpPr/>
          <p:nvPr/>
        </p:nvSpPr>
        <p:spPr>
          <a:xfrm>
            <a:off x="7391520" y="6553080"/>
            <a:ext cx="15238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免疫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8600" y="2209680"/>
            <a:ext cx="89154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二、免疫学的发展史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经验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二）科学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三）现代免疫学时期（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世纪中叶</a:t>
            </a:r>
            <a:r>
              <a:rPr b="1" lang="en-US" sz="2800" spc="-1" strike="noStrike">
                <a:solidFill>
                  <a:srgbClr val="124b98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至今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5"/>
          <p:cNvSpPr/>
          <p:nvPr/>
        </p:nvSpPr>
        <p:spPr>
          <a:xfrm>
            <a:off x="7315200" y="6477120"/>
            <a:ext cx="1523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027880" y="1981080"/>
            <a:ext cx="551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一、医学微生物学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（一）微生物的概念与分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微生物是一群个体微小、结构简单，肉眼不能直接见到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必须借助光学或电子显微镜放大几百倍、几千倍甚至几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万倍才能看到的微小生物。微生物具有种类多、分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广、繁殖快的特点，有的种类与人类关系密切。按其结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构与组成不同，可将它们分为三型八大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5"/>
          <p:cNvSpPr/>
          <p:nvPr/>
        </p:nvSpPr>
        <p:spPr>
          <a:xfrm>
            <a:off x="6019920" y="647712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609480"/>
            <a:ext cx="541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病原生物学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3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28600" y="2209680"/>
            <a:ext cx="8915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40160" y="1752480"/>
            <a:ext cx="6027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非细胞型微生物 无典型的细胞结构，仅由核心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和蛋白质外壳组成，是最小的一类微生物，能通过滤菌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器。核心中只有单一的核酸（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或</a:t>
            </a:r>
            <a:r>
              <a:rPr b="0" lang="en-US" sz="2800" spc="-1" strike="noStrike">
                <a:solidFill>
                  <a:srgbClr val="124b98"/>
                </a:solidFill>
                <a:latin typeface="Times New Roman"/>
                <a:ea typeface="楷体_GB2312"/>
              </a:rPr>
              <a:t>RNA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），缺乏酶系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统，只能在活细胞内增殖。病毒为其代表，另外，近年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发现的结构中没有核酸只有蛋白质的朊粒也归为此类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原核细胞型微生物 细胞的分化程度较低，仅有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原始核质，无核仁和核膜，胞质内细胞器不完整。包括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细菌、支原体、衣原体、放线菌、立克次体和螺旋体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．真核细胞型微生物 细胞核分化程度较高，有核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膜、核仁和染色体，胞质内细胞器完整，真菌属此类微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24b98"/>
                </a:solidFill>
                <a:latin typeface="楷体_GB2312"/>
                <a:ea typeface="楷体_GB2312"/>
              </a:rPr>
              <a:t>生物。</a:t>
            </a:r>
            <a:endParaRPr b="0" lang="en-US" sz="2800" spc="-1" strike="noStrike">
              <a:solidFill>
                <a:srgbClr val="124b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cp:keywords/>
  <dc:language>en-US</dc:language>
  <cp:lastModifiedBy>USER</cp:lastModifiedBy>
  <cp:lastPrinted>1899-12-30T00:00:00Z</cp:lastPrinted>
  <dcterms:modified xsi:type="dcterms:W3CDTF">2014-04-16T06:42:00Z</dcterms:modified>
  <cp:revision>8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