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E68-8B5B-4A5C-A6F8-B96BBEA2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594-5234-470B-B2BE-7349697A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EB7-A2A1-4448-85DF-4C10B383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9CD-B607-47CF-97AE-97BA31EF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44C2-2A01-4EB6-A975-A4F6C9B3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B7F-F59C-4CAF-80C5-2C0C9A9F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05DF-2231-4464-A177-9AFF645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71BE-6077-4391-970A-0655901F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9CE4-8114-4A18-87B3-76DA92AA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A3F8-20A6-4AB1-9219-61D3FE9B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B61D-6C88-40FC-9B0D-2A65F24F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B21-0105-4B23-9A13-24FE27C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69B1-7821-4432-A2AA-4FBBCEE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B165-EDB3-433F-9E1A-FD4CCA4F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BB9C-E58A-4D57-8956-A8D54557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D9F9-71E6-4214-88DD-0CA96D48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75E5-1A70-4301-A817-C9C3950D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438-97CE-4521-B414-C323E0BB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363-7322-421B-8009-9D9E25FD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249-AD07-4034-BFD4-9433E30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4E5-4DE3-4122-A183-4737DBBC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884-EA71-4924-A513-04DE04C7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D89-FB23-4153-927A-7320DB02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8A46-2AA4-4B24-A5FE-594D70B8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1749-5453-401F-9F12-E3F90E33D6F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BC66-831F-4289-908D-1080001F3A7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29718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发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0968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医学节肢动物的形态特征与主要种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九节 医学节肢动物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对人体的危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5181480"/>
            <a:ext cx="449604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重要医学节肢动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34340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医学节肢动物的生态与防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2362320" cy="217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380880"/>
            <a:ext cx="2361960" cy="2063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957680" cy="213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907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白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666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6668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3429000" y="320040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095880" y="3276720"/>
            <a:ext cx="24386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90720" y="541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阴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臭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562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硬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54200" cy="2819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8120" y="3809880"/>
            <a:ext cx="2743200" cy="224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867280" y="304920"/>
            <a:ext cx="1862280" cy="2590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988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蠕形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疥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软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095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恙螨幼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86200" y="380880"/>
            <a:ext cx="930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380880"/>
          <a:ext cx="8229600" cy="5747040"/>
        </p:xfrm>
        <a:graphic>
          <a:graphicData uri="http://schemas.openxmlformats.org/drawingml/2006/table">
            <a:tbl>
              <a:tblPr/>
              <a:tblGrid>
                <a:gridCol w="2378160"/>
                <a:gridCol w="58514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媒介节肢动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宋体"/>
                          <a:ea typeface="楷体_GB2312"/>
                        </a:rPr>
                        <a:t>虫媒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疟疾、丝虫病、流行性乙型脑炎、登革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结膜吸吮线虫病；多种消化道、呼吸道、眼部、皮肤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白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黑热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蚤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鼠疫、地方性斑疹伤寒、膜壳绦虫病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蟑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美丽筒线虫病、缩小膜壳绦虫病等；多种消化道的细菌性、病毒性和寄生虫性疾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斑疹伤寒、虱性回归热、战壕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森林脑炎、新疆出血热、蜱媒回归热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恙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革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流行性出血热、森林脑炎、立克次体痘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57400"/>
            <a:ext cx="777240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医学节肢动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直接或间接方式危害人体健康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媒介节肢动物或传播媒介  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能传播疾病的节肢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虫媒病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媒介节肢动物所传播的疾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九节 医学节肢动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形态特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身体分节，两侧对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表由坚韧的外骨骼组成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附肢成对、分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循环系统为开放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ahoma"/>
                <a:ea typeface="楷体_GB2312"/>
              </a:rPr>
              <a:t>医学节肢动物的主要种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昆虫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、蚤、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蛛形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蜱、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甲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蟹、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  <a:ea typeface="楷体_GB2312"/>
              </a:rPr>
              <a:t>蝲蛄、剑水蚤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唇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蜈蚣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倍足纲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马陆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节肢动物的形态特征与主要种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节肢动物由卵到成虫的发育过程中所经历的形态、生理和生活习性等一系列的改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经历蛹期，蛹前发育期的幼虫在形态和生活习性等方面与成虫完全不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半变态或不完全变态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育过程中无需经历蛹期，成虫前发育期的若虫在形态和生活习性等方面与成虫相似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仅表现为虫体较小，生殖器官未发育成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节肢动物的发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一）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叮刺、吸血和骚扰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蚊、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疥螨、蝇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硬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敏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尘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间接危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或体表没有发育和繁殖只是被机械性携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物性传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病原体在节肢动物体内必须经过发育、繁殖具有感染性后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才能传播给新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节肢动物对人体的危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楷体_GB2312"/>
              </a:rPr>
              <a:t>（一）医学节肢动物的生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医学节肢动物与其所生存环境之间的相互关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（二）医学节肢动物的防制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治理、物理防制、化学防制、生物防制、遗传防制以及法规防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节肢动物的生态与防制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的形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重要医学节肢动物与其传播的虫媒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重要医学节肢动物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11:02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