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0E0B-F72C-47A6-9CC1-B2E39236A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62B3-01AE-417B-A413-6888F438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DB7F-5F39-47F2-A1BC-8C6F66AF0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5F7D-E147-42C5-834C-01FDC50C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66BD-591C-467A-A291-6F14CA570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6486-31C0-4756-B8F2-93016AD1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0505-9BED-4309-AF73-87E05401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2090-1B31-4EBF-82E8-9F44E9FD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D1A2-0B98-4675-9B5E-D8320B42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97CE-7E18-4E69-8BC7-E9B3A8E7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E0E2-6810-4892-8617-64A692D7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AC99-7DA4-4E59-BCE1-BFD85EB6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F942-B1D4-4DE7-ACE7-18E0BDE1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64B8-AE04-4BDD-BD1F-D37FE2B3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BA2C-E2B0-4691-B517-2A88614C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5EF3-AD4A-43A1-B2D6-EDB3C2919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F843-CA50-4624-A278-BA8F777F6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8719-735C-435E-AFCD-07F0B1E2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046E-E2C9-4A75-BB93-4841D118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0CD5-36F8-40E7-8024-28DA8D6B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5A5D-058B-4F8C-9903-1E949A8C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6359-75DD-4F0B-BC65-93E56037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35E8-F99F-439B-9EB4-DC71842F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7BC7-848E-4971-8DD2-89C00B13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69AD-71A4-45CB-81D3-A5C6E0148FB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E3DB-689B-4288-9BE5-218BF4C54B27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752480" y="1143000"/>
            <a:ext cx="5867640" cy="99072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第七节 鞭  毛  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2590920"/>
            <a:ext cx="7086600" cy="36576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3048120"/>
            <a:ext cx="472464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楷体_GB2312"/>
                <a:ea typeface="楷体_GB2312"/>
              </a:rPr>
              <a:t>阴道毛滴虫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Tahoma"/>
                <a:ea typeface="楷体_GB2312"/>
              </a:rPr>
              <a:t>蓝氏贾第鞭毛虫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２</a:t>
            </a: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流行因素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楷体_GB2312"/>
              </a:rPr>
              <a:t>传染源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  男、女性感染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楷体_GB2312"/>
              </a:rPr>
              <a:t>传染途径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  直接或间接接触传播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楷体_GB2312"/>
              </a:rPr>
              <a:t>滋养体的抵抗力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-360" y="152280"/>
            <a:ext cx="89917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阴道毛滴虫的流行与防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380880"/>
            <a:ext cx="86868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阴道毛滴虫流行与防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2057400"/>
            <a:ext cx="845820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３</a:t>
            </a: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防治原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改善共公卫生设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个人卫生，规范个人行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控制传染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治疗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甲硝唑（灭滴灵）内服、外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%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乳酸或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  <a:ea typeface="宋体"/>
              </a:rPr>
              <a:t>5000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高锰酸钾溶液外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阴道毛滴虫的“自净作用”</a:t>
            </a:r>
            <a:br>
              <a:rPr sz="40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2133720"/>
            <a:ext cx="192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乳酸杆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1337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上皮细胞中的糖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30481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乳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41972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维持阴道内的酸性环境，抑制了包括滴虫在内的病原生物的生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2438280"/>
            <a:ext cx="914400" cy="76320"/>
          </a:xfrm>
          <a:prstGeom prst="rightArrow">
            <a:avLst>
              <a:gd name="adj1" fmla="val 50000"/>
              <a:gd name="adj2" fmla="val 29952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3200400"/>
            <a:ext cx="914400" cy="76320"/>
          </a:xfrm>
          <a:prstGeom prst="rightArrow">
            <a:avLst>
              <a:gd name="adj1" fmla="val 50000"/>
              <a:gd name="adj2" fmla="val 29952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05320" y="3581280"/>
            <a:ext cx="75960" cy="762120"/>
          </a:xfrm>
          <a:prstGeom prst="downArrow">
            <a:avLst>
              <a:gd name="adj1" fmla="val 50000"/>
              <a:gd name="adj2" fmla="val 25082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外阴瘙痒或烧灼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阴道分泌物增多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典型白带为灰黄色泡沫状，有臭味，有时会混有血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滴虫性阴道炎的临床表现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800" spc="-1" strike="noStrike">
                <a:solidFill>
                  <a:srgbClr val="e5ffff"/>
                </a:solidFill>
                <a:latin typeface="Tahoma"/>
                <a:ea typeface="楷体_GB2312"/>
              </a:rPr>
              <a:t>阴道毛滴虫的形态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447920" y="2232000"/>
            <a:ext cx="5562360" cy="321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819520" y="5867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生理盐水直接涂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5ffff"/>
                </a:solidFill>
                <a:latin typeface="Tahoma"/>
                <a:ea typeface="楷体_GB2312"/>
              </a:rPr>
              <a:t>阴道毛滴虫的形态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371600" y="1981080"/>
            <a:ext cx="5105520" cy="4221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314040" y="2514600"/>
            <a:ext cx="11552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瑞氏或姬氏染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7732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阴道毛滴虫滋养体的抵抗力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58080" y="2181960"/>
            <a:ext cx="78278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厕所板上可生存活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30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分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3276720"/>
            <a:ext cx="7924680" cy="1600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40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℃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水中能活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102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时，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～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℃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水中可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65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时，普通肥皂水中活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45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～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150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分钟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4800600"/>
            <a:ext cx="8229600" cy="4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在潮湿的毛巾、衣裤中可存活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23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小时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304920"/>
            <a:ext cx="822960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二、蓝氏贾第鞭毛虫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267080" y="2286000"/>
            <a:ext cx="4114800" cy="3498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219320" y="236232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形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320040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生活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38862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致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457200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实验诊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5257800"/>
            <a:ext cx="40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流行与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04920" y="228600"/>
            <a:ext cx="8229600" cy="167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一）蓝氏贾第鞭毛虫的形态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2895480"/>
            <a:ext cx="3200400" cy="3581640"/>
          </a:xfrm>
          <a:custGeom>
            <a:avLst/>
            <a:gdLst>
              <a:gd name="textAreaLeft" fmla="*/ 162720 w 3200400"/>
              <a:gd name="textAreaRight" fmla="*/ 3037680 w 3200400"/>
              <a:gd name="textAreaTop" fmla="*/ 162720 h 3581640"/>
              <a:gd name="textAreaBottom" fmla="*/ 3418920 h 3581640"/>
            </a:gdLst>
            <a:ahLst/>
            <a:rect l="textAreaLeft" t="textAreaTop" r="textAreaRight" b="textAreaBottom"/>
            <a:pathLst>
              <a:path w="21600" h="24173">
                <a:moveTo>
                  <a:pt x="3750" y="0"/>
                </a:moveTo>
                <a:arcTo wR="3750" hR="3750" stAng="16200000" swAng="-5400000"/>
                <a:lnTo>
                  <a:pt x="0" y="20423"/>
                </a:lnTo>
                <a:arcTo wR="3750" hR="3750" stAng="10800000" swAng="-5400000"/>
                <a:lnTo>
                  <a:pt x="17850" y="24173"/>
                </a:lnTo>
                <a:arcTo wR="3750" hR="3750" stAng="5400000" swAng="-5400000"/>
                <a:lnTo>
                  <a:pt x="21600" y="3750"/>
                </a:lnTo>
                <a:arcTo wR="3750" hR="3750" stAng="0" swAng="-5400000"/>
                <a:close/>
              </a:path>
            </a:pathLst>
          </a:cu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梨形，背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吸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细胞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鞭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轴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翻滚式运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20574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楷体_GB2312"/>
              </a:rPr>
              <a:t>１．滋养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886200" y="1981080"/>
            <a:ext cx="2200320" cy="2876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095880" y="2895480"/>
            <a:ext cx="2411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楷体_GB2312"/>
              </a:rPr>
              <a:t>（一）</a:t>
            </a: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蓝氏贾第鞭毛虫的形态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190512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楷体_GB2312"/>
              </a:rPr>
              <a:t>２．包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3276720"/>
            <a:ext cx="3352680" cy="3047760"/>
          </a:xfrm>
          <a:prstGeom prst="roundRect">
            <a:avLst>
              <a:gd name="adj" fmla="val 17361"/>
            </a:avLst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椭圆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囊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鞭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丝状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轴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17524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成熟包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25909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未成熟包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14600" y="190512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105520" y="2133720"/>
            <a:ext cx="3028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191120" y="2438280"/>
            <a:ext cx="3022560" cy="3657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04920" y="457200"/>
            <a:ext cx="8229600" cy="167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a50021"/>
                </a:solidFill>
                <a:latin typeface="Tahoma"/>
                <a:ea typeface="楷体_GB2312"/>
              </a:rPr>
              <a:t>一、阴道毛滴虫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236232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形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312408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生活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38862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致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472428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实验诊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556272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流行与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38080" y="3352680"/>
            <a:ext cx="2133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成熟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3276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05720" y="32767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33720" y="4572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124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经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30481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二分裂增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05520" y="3657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十二指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4495680"/>
            <a:ext cx="30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随粪便排出体外，发育至四核成熟包囊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153280" cy="1218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二）蓝氏贾第鞭毛虫的生活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3657600"/>
            <a:ext cx="761760" cy="76320"/>
          </a:xfrm>
          <a:prstGeom prst="rightArrow">
            <a:avLst>
              <a:gd name="adj1" fmla="val 50000"/>
              <a:gd name="adj2" fmla="val 24952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05520" y="3581280"/>
            <a:ext cx="1295280" cy="76320"/>
          </a:xfrm>
          <a:prstGeom prst="rightArrow">
            <a:avLst>
              <a:gd name="adj1" fmla="val 50000"/>
              <a:gd name="adj2" fmla="val 42429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4800600"/>
            <a:ext cx="761760" cy="76320"/>
          </a:xfrm>
          <a:prstGeom prst="rightArrow">
            <a:avLst>
              <a:gd name="adj1" fmla="val 50000"/>
              <a:gd name="adj2" fmla="val 24952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133720"/>
            <a:ext cx="44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１</a:t>
            </a: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楷体_GB2312"/>
              </a:rPr>
              <a:t>基本过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二）蓝氏贾第鞭毛虫的生活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1752480"/>
            <a:ext cx="7619760" cy="33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２</a:t>
            </a: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主要知识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寄生部位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十二指肠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感染阶段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成熟的四核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感染方式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经口感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致病阶段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0880" y="152280"/>
            <a:ext cx="815364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三）蓝氏贾第鞭毛虫的致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828800"/>
            <a:ext cx="7239240" cy="30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１</a:t>
            </a: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致病机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吸盘的吸附以及化学性刺激对肠黏膜的损伤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大量虫体形成的机械性屏障作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宿主的免疫力降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680" y="182880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２</a:t>
            </a: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临床类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无症状带虫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贾第虫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三）蓝氏贾第鞭毛虫的致病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四）蓝氏贾第鞭毛虫的实验诊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371600" y="2209680"/>
            <a:ext cx="640080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病原检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粪检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包囊   碘液染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滋养体  生理盐水直接　　　　涂片或染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十二指肠引流液检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蓝氏贾第鞭毛虫流行与防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21337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１</a:t>
            </a: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a50021"/>
                </a:solidFill>
                <a:latin typeface="Tahoma"/>
                <a:ea typeface="楷体_GB2312"/>
              </a:rPr>
              <a:t>流行分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312408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区域分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3720" y="44956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好发人群   免疫力低下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548640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２</a:t>
            </a: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a50021"/>
                </a:solidFill>
                <a:latin typeface="Tahoma"/>
                <a:ea typeface="楷体_GB2312"/>
              </a:rPr>
              <a:t>流行因素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包囊的外排量大且抵抗力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14800" y="25909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卫生条件差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67080" y="36576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医疗水平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14800" y="2895480"/>
            <a:ext cx="76320" cy="1219320"/>
          </a:xfrm>
          <a:custGeom>
            <a:avLst/>
            <a:gdLst>
              <a:gd name="textAreaLeft" fmla="*/ 48960 w 76320"/>
              <a:gd name="textAreaRight" fmla="*/ 7632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6840" y="2209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３</a:t>
            </a: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防治原则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治疗药物：甲硝唑、丙硫咪唑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注意饮食卫生，加强水源、粪便管理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蓝氏贾第鞭毛虫流行与防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371600" y="533520"/>
            <a:ext cx="6299280" cy="45147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362320" y="55627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ahoma"/>
                <a:ea typeface="楷体_GB2312"/>
              </a:rPr>
              <a:t>大量滋养体覆盖于小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腹痛、腹泻、腹胀、呕吐、发热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厌食等。以腹泻为主，腹泻呈水样，量大、恶臭、一般无脓血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贾第虫病的临床表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133720" y="457200"/>
            <a:ext cx="4647960" cy="46004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971800" y="55627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ahoma"/>
                <a:ea typeface="楷体_GB2312"/>
              </a:rPr>
              <a:t>碘液染色中的包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女性的阴道、尿道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男性的尿道、生殖系统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阴道毛滴虫的寄生部位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676520" y="533520"/>
            <a:ext cx="5410080" cy="4554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286000" y="5334120"/>
            <a:ext cx="43434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姬氏染色滋养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包囊在水中和粪便中分别可以存活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和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以上；加氯消毒饮水不能杀死包囊；在传播媒介蝇的消化道可存活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时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贾第虫包囊的抵抗力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228600"/>
            <a:ext cx="8229600" cy="167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a50021"/>
                </a:solidFill>
                <a:latin typeface="Tahoma"/>
                <a:ea typeface="楷体_GB2312"/>
              </a:rPr>
              <a:t>（一）阴道毛滴虫的形态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28600" y="2286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梨形或椭圆形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鞭毛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波动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轴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419720" y="1981080"/>
            <a:ext cx="26827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228600"/>
            <a:ext cx="8534160" cy="167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50021"/>
                </a:solidFill>
                <a:latin typeface="Tahoma"/>
                <a:ea typeface="楷体_GB2312"/>
              </a:rPr>
              <a:t>（二）阴道毛滴虫的生活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2209680"/>
            <a:ext cx="74674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繁殖方式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分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感染阶段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感染方式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直接或间接接触传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致病阶段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（三）阴道毛滴虫的致病</a:t>
            </a:r>
            <a:br>
              <a:rPr sz="4000"/>
            </a:b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2057400"/>
            <a:ext cx="647712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a50021"/>
                </a:solidFill>
                <a:latin typeface="Tahoma"/>
                <a:ea typeface="楷体_GB2312"/>
              </a:rPr>
              <a:t>致病机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与乳酸杆菌争夺糖原，破坏阴道的“自净作用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致病细菌的协同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机体生理机能失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2.</a:t>
            </a:r>
            <a:r>
              <a:rPr b="1" lang="zh-CN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临床类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滴虫性阴道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滴虫性尿道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男性前列腺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（三）阴道毛滴虫的致病</a:t>
            </a:r>
            <a:br>
              <a:rPr sz="4000"/>
            </a:b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四）阴道毛滴虫的实验诊断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2286000"/>
            <a:ext cx="541008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阴道分泌物检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理盐水涂片法镜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涂片染色法镜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尿液检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前列腺液检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31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阴道毛滴虫的流行与防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2057400"/>
            <a:ext cx="7010280" cy="31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流行分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世界性分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以中青年女性感染居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性传播疾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8:05:36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