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E32-9254-4EF0-B63E-D20153B8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B74-F3AA-4ABC-A210-166B163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B86-0D90-449E-BA1C-AC82D3E2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287-A52A-43A8-B18F-A06EA6CA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134A-1482-4613-B715-2BFF6437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892-6AA1-4215-9634-C4733ABC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7064-6ABA-45EF-AE8D-B1F71446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F431-B193-497E-943E-3A5F794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C9E3-E60D-4EEC-97F3-E8265B07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5734-7EBB-4B8C-9CEB-1903663D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06E-0453-4558-8406-F78202B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820D-FC79-4BF4-B821-E80997E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8E1D-5517-449E-8282-294BA98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A710-46CB-4109-9EA9-255B147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D13B-A312-4C15-B7DD-14B3D7A0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BFA5-0A9E-46F6-8079-8E83A0AD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2489-6090-41B8-A654-FD5F93AE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7BD-6B03-4F32-B278-FF95EC4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603-0EE7-44DD-8A12-C0FFB05E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A18-6AC2-4EC6-918A-68CDAE02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04C-2B98-49BB-BF03-AFDDE65E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8F9-C4FB-4ECD-A2C7-E409DDB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A1E-823E-43FD-82D2-C34A8B1B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7E0-D274-4AE0-92E8-CE9C3DA6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AA23-31D2-4DC6-8C58-F8C939E05DE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9BF0-E99B-4B81-9216-E1BB09B7000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致病特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活史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5562720"/>
            <a:ext cx="47242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生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仿宋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8991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五节 医学原虫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0"/>
            <a:ext cx="792468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14600"/>
            <a:ext cx="7696080" cy="29718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据运动细胞器分类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足虫纲：阿米巴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鞭毛虫纲：阴道毛滴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孢子虫纲：疟原虫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纤毛虫纲：结肠小袋纤毛虫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五、医学原虫的分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伪足作为运动器官，做变形运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多有滋养体和包囊两个时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于人体的种类只有溶组织内阿米巴致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六节 根 足 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2362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形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886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5720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实验诊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25780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流行与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溶组织内阿米巴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20040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生活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572000" cy="3770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溶组织内阿米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419720" cy="28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578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981080"/>
            <a:ext cx="4572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外质活动度大，伪足明显，内质含红细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57800" y="5486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54100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铁苏木素染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4572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滋养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肠腔型滋养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084560"/>
            <a:ext cx="3200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体小、</a:t>
            </a:r>
            <a:r>
              <a:rPr b="1" lang="zh-CN" sz="3200" spc="-1" strike="noStrike">
                <a:solidFill>
                  <a:srgbClr val="ff7c80"/>
                </a:solidFill>
                <a:latin typeface="Tahoma"/>
                <a:ea typeface="楷体_GB2312"/>
              </a:rPr>
              <a:t>伪足不明显，运动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不活泼，内质不含红细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一）溶组织内阿米巴形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200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未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成熟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2244960" cy="312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0" y="5410080"/>
            <a:ext cx="1981080" cy="8769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单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铁苏木素染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13720" y="1981080"/>
            <a:ext cx="2330280" cy="312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0" y="5486400"/>
            <a:ext cx="2057400" cy="86256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碘液染色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971800"/>
            <a:ext cx="2133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核包囊双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2280" y="1846440"/>
            <a:ext cx="152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包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72428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四核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514600"/>
            <a:ext cx="12193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四核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7432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514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3886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肠腔型小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410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组织型大滋养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包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27432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27432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419720" y="2971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911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19720" y="4343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55627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90920" y="5715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362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imes New Roman"/>
                <a:ea typeface="隶书"/>
              </a:rPr>
              <a:t>经口感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819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Times New Roman"/>
              </a:rPr>
              <a:t>在小肠下段脱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895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(</a:t>
            </a:r>
            <a:r>
              <a:rPr b="1" lang="zh-CN" sz="1600" spc="-1" strike="noStrike">
                <a:solidFill>
                  <a:srgbClr val="000099"/>
                </a:solidFill>
                <a:latin typeface="宋体"/>
              </a:rPr>
              <a:t>结肠下段</a:t>
            </a:r>
            <a:r>
              <a:rPr b="0" lang="zh-CN" sz="1600" spc="-1" strike="noStrike">
                <a:solidFill>
                  <a:srgbClr val="000099"/>
                </a:solidFill>
                <a:latin typeface="宋体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71560" y="4343400"/>
            <a:ext cx="6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Times New Roman"/>
              </a:rPr>
              <a:t>侵入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81040" y="2819520"/>
            <a:ext cx="667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5791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00"/>
                </a:solidFill>
                <a:latin typeface="Times New Roman"/>
                <a:ea typeface="隶书"/>
              </a:rPr>
              <a:t>二分裂增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1148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563868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59520" y="2438280"/>
            <a:ext cx="1003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粪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发育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38862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稀水样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38800" y="533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随脓血便排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体外（死亡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基本过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二）溶组织内阿米巴生活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2362320"/>
            <a:ext cx="480060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养体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581280"/>
            <a:ext cx="6705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致病阶段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感染阶段与方式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核包囊，误食感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寄生部位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盲部、结肠黏膜皱褶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殖方式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981080"/>
            <a:ext cx="228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7c80"/>
                </a:solidFill>
                <a:latin typeface="Tahoma"/>
                <a:ea typeface="楷体_GB2312"/>
              </a:rPr>
              <a:t>基本形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828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主要知识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2819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2362320"/>
            <a:ext cx="6629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致病因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株毒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的协同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的机体抵抗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（三）溶组织内阿米巴致病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2057400"/>
            <a:ext cx="52578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临床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症状带虫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4784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、细胞质、细胞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8195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个组成部分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905120"/>
            <a:ext cx="8001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病原检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粪便检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生理盐水涂片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滋养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碘液染色</a:t>
            </a:r>
            <a:r>
              <a:rPr b="1" lang="zh-CN" sz="4000" spc="-1" strike="noStrike">
                <a:solidFill>
                  <a:srgbClr val="ff7c8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包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活组织检查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肠镜检、脓腔穿刺检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839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Tahoma"/>
                <a:ea typeface="楷体_GB2312"/>
              </a:rPr>
              <a:t>免疫学诊断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外阿米巴病的诊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LIS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F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H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方法检测抗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9625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分子生物学检查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探针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R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四）溶组织内阿米巴的实验诊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8892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流行分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流行于热带和亚热带地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人群的经济状况、卫生条件及饮食习惯等有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南方高于北方、农村高于城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楷体_GB2312"/>
              </a:rPr>
              <a:t>流行因素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染源外排包囊数量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囊抵抗力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方式多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水源污染，食物污染，蝇、蟑螂等昆虫携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960" y="152280"/>
            <a:ext cx="9372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（五）溶组织内阿米巴的流行与防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9343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防治原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消化道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药物   甲硝唑、大蒜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3809880" cy="571500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5715000"/>
              <a:gd name="textAreaBottom" fmla="*/ 5529240 h 571500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24280" y="2057400"/>
          <a:ext cx="340848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2057400"/>
                    <a:ext cx="3408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24280" y="380880"/>
          <a:ext cx="3353040" cy="1714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80880"/>
                    <a:ext cx="33530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895480" y="47242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343400"/>
            <a:ext cx="20574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阿米巴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14400"/>
            <a:ext cx="4114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11430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好发部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盲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乙状结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819520"/>
            <a:ext cx="3962160" cy="190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29718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溃疡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火山口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孤立分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800600"/>
            <a:ext cx="3962520" cy="2057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4952880"/>
            <a:ext cx="28191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粪便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果酱样黏液          脓血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3809880" y="457200"/>
          <a:ext cx="4953240" cy="29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457200"/>
                    <a:ext cx="4953240" cy="2935440"/>
                  </a:xfrm>
                  <a:prstGeom prst="rect">
                    <a:avLst/>
                  </a:prstGeom>
                  <a:ln w="1260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57200" y="990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肠外阿米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05740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肝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肺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阿米巴脑脓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809880" y="3352680"/>
            <a:ext cx="5105520" cy="3505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1320" y="58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阿米巴肝脓肿组织切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066680" y="0"/>
            <a:ext cx="7010640" cy="10666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5120" y="3048120"/>
            <a:ext cx="358128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送：及时、保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2362320"/>
            <a:ext cx="32004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取：脓、黏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676520"/>
            <a:ext cx="502920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看：酱红色黏液，腥臭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76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滋养体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35053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楷体_GB2312"/>
              </a:rPr>
              <a:t>粪检包囊应注意的问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4648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阴性结果时，应间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再查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81080" y="3962520"/>
            <a:ext cx="69343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功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运动、营养、排泄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侵袭、感觉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膜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结构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单位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质—代谢的中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19051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基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971800" y="16002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凝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9718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内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溶胶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3526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3352680" y="31240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膜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380988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动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3352680" y="464832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细胞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35268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56272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内含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5943600" y="32767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伪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5943600" y="38098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鞭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6019920" y="4343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纤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182880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048120" y="56386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小体、代谢产物、共生物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28600"/>
            <a:ext cx="82296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3352680"/>
            <a:ext cx="8153280" cy="32004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部分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核膜   核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核仁   染色质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细胞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一、医学原虫的形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运动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伪足运动  鞭毛运动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毛运动  滑行运动或扭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419720"/>
            <a:ext cx="76960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养与代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摄食与排泄方式多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.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58080" y="2181960"/>
            <a:ext cx="7827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生殖方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世代交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性生殖与无性交替出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733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无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有性生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12193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接合生殖  纤毛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27432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2362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配子生殖   疟原虫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181480" y="3807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二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320040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多分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47242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419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出芽生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2133720"/>
            <a:ext cx="152280" cy="198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52388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429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8229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医学原虫的生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20968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直接发育型  不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际传播型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3434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转换宿主型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需要中间宿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三、医学原虫的生活史类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0" y="266688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124080"/>
            <a:ext cx="7848720" cy="34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播散倾向</a:t>
            </a:r>
            <a:br>
              <a:rPr sz="40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阿米巴：血流    肝、肺、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495680"/>
            <a:ext cx="609480" cy="76320"/>
          </a:xfrm>
          <a:prstGeom prst="rightArrow">
            <a:avLst>
              <a:gd name="adj1" fmla="val 50000"/>
              <a:gd name="adj2" fmla="val 1996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5105520"/>
            <a:ext cx="73152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弓形虫、肺孢子虫、隐孢子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四、医学原虫的致病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600200"/>
            <a:ext cx="83818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增殖作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疟原虫：裂体增殖   寒战、发热、出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8:02:3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