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63ED-F3BF-492A-A1DD-42E11DA1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36C-2CA2-4A2E-AB6C-E8C20E72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310-3205-4359-91EF-1589EF19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7CD-D5C2-470F-A33D-6CE82E13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60AB-AB49-488F-BFDD-47B3DCEE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D6CA-EFE3-4ED4-971C-796B629D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5F8C-0289-45D6-BD62-DD164529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3D47-097B-4934-9F83-6D5D4B2E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0021-8E42-4DCA-B910-840D6351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D5EF-2B97-45CD-B25C-7B61781E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751F-DBD6-4D51-83C8-F36BC5D6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E94-700F-4F86-8D03-369CB0F3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3073-729E-4183-853E-2914D87B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F777-92F5-4C98-BD9A-F41B4107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C99A-3D6B-447B-B16A-C04F1CDD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677F-10F5-406E-B979-C34E9A78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0551-0143-4B82-8A8E-EADA0A45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B7C-4998-4E3A-8C7A-93EDBE47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E29-11AC-4164-965B-0C813141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48C-47ED-40EF-B485-333FBA95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3AF-CB1E-44EA-BD42-78154AF9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13C-9DF6-47AF-BD3E-DD4AEB90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8F5-832F-4FBD-B2DA-85D383BB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55EE-F443-449D-BEAF-3C71CF72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E4D7-5801-43E1-9C4D-9047FBD1BF2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9C9A-1199-44BB-A311-4B9DD779D16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五章  常见人体寄生虫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熟记常见医学蠕虫、医学原虫的生活史，流行因素与防治原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学会识别常见医学蠕虫虫和医学原虫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说出各种医学蠕虫、医学原虫的致病机制与所致疾病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归纳常见与人类疾病相关医学节肢动物的发育与变态，对人体的危害与防制原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解释世代交替、媒介节肢动物、虫媒病、变态、机械性传播、生物性传播的概念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．培养学生认真负责的工作态度，能对常见病原检查标本进行采集与送检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楷体_GB2312"/>
                <a:ea typeface="楷体_GB2312"/>
              </a:rPr>
              <a:t>第一节  医学蠕虫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蠕虫是一类内无骨骼，外无甲壳，借肌肉伸缩而蠕动的多细胞无脊椎动物。寄生于人体与医学有关的蠕虫称为医学蠕虫。由蠕虫引起的疾病称为蠕虫病。其中既可寄生在人体也可寄生在某些动物体所致疾病，称人兽共患寄生虫病。蠕虫的幼虫如侵入非适宜宿主体内，造成局部或全身损害的病变，称幼虫移行症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依据蠕虫生活史过程中是否需要中间宿主，可将蠕虫分为两大类型：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①土源性蠕虫：生活史中不需要中间宿主，其虫卵或幼虫直接在外界（通常在土壤中）发育为感染阶段，经消化道途径或接触途径使人感染。大部分线虫属此类寄生虫。</a:t>
            </a:r>
            <a:br>
              <a:rPr sz="2800"/>
            </a:br>
            <a:r>
              <a:rPr b="1" lang="zh-CN" sz="2800" spc="-1" strike="noStrike">
                <a:solidFill>
                  <a:srgbClr val="e5ffff"/>
                </a:solidFill>
                <a:latin typeface="Tahoma"/>
              </a:rPr>
              <a:t>       ②生物源性蠕虫：生活史中至少需要一个中间宿主，必须经历中间宿主体内发育阶段，才能最终发育成感染阶段。吸虫、大部分绦虫以及部分线虫等属此类寄生虫。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7:44:59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