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3EE-B21B-4583-9B54-83BD9EAD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E2E-799C-4FA0-838B-E4FA478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559-C5FB-439F-A22A-9F5E1A57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78A-9ACF-4AB2-AC50-914BE2AC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792-379A-4069-B390-3EE03E91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8B39-F6F0-44A6-8289-11C14DA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CC1C-C1CD-4C16-9121-D1948A1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3EE-AB43-42FB-9FF6-0C230213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1D39-7AF2-422D-896C-1C0F0EC6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C898-3E83-4CEB-9350-FC09EFB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6B0-A29D-4841-B5B3-3ED5DE3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0DB-B8E9-419F-A560-783FF2F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957-9E2C-449E-A837-45951016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8EC9-D19D-4139-8510-26045B3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E7D6-1C1F-4AAD-85E6-35906205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9BC9-86E9-48EF-8903-40C5C2A0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A39B-AC15-4C68-87F2-D80C455B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E23-5BDF-4937-A7F2-1560CDD6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ACD-DE14-4213-AD6A-E51BB03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B37-D1AB-4EC6-A72B-315F78AB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798-ABEA-45A5-A567-41DD0206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B78-0674-4970-9446-18DB70E5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838-37D9-4F1B-93D3-41CCB6F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6B4-A90D-4D58-98F6-5848C561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CC30-478E-4007-93A8-88AB5CCE896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E3F-03F1-4147-A576-26DDABA4190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480060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114800"/>
            <a:ext cx="4572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352680"/>
            <a:ext cx="449568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590920"/>
            <a:ext cx="5486400" cy="68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52280"/>
            <a:ext cx="88390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第十四章 </a:t>
            </a:r>
            <a:br>
              <a:rPr sz="6000"/>
            </a:b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人体寄生虫学概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7840" y="2658960"/>
            <a:ext cx="5386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解释寄生关系、寄生虫、机会致病性寄生虫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宿主、中间宿主、终宿主、保虫宿主、转续宿主、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活史、感染阶段、非消除性免疫的概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说出寄生虫对人体的损害以及人体对寄生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的免疫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．知道寄生虫病流行的环节、特点和防治原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以及其实验诊断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寄生虫病的流行状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的感染虫种和人数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食源性寄生虫病的发病率升高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会致病性寄生虫病的发病人数增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与行为方式有关的寄生虫感染普遍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重要寄生虫病的疫情还不稳定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病的防治原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988000"/>
            <a:ext cx="723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控制传染源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220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保护易感人群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楷体_GB2312"/>
              </a:rPr>
              <a:t>疫情监测、个人防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病原检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血液、组织液、排泄物或活组织检出寄生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免疫学诊断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诊断早期、轻度、深部、单性寄生的寄生虫感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四节  寄生虫病的实验诊断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寄生虫感染途径与方式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途径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、食物、土壤、空气、中间宿主、昆虫媒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方式</a:t>
            </a: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感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接触感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媒介节肢动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经输血、胎盘、呼吸、乳汁及自身感染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控制传染源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17528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  <a:ea typeface="楷体_GB2312"/>
              </a:rPr>
              <a:t>普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4572000" cy="83844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患者、带虫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886200"/>
            <a:ext cx="5715000" cy="762120"/>
          </a:xfrm>
          <a:prstGeom prst="roundRect">
            <a:avLst>
              <a:gd name="adj" fmla="val 2215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疗家畜和捕杀野生动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切断传播途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强粪便和水源管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意环境和个人卫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防制媒介节肢动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控制中间宿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027160"/>
            <a:ext cx="777240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及其分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营寄生生活的低等小动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分类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体外寄生虫与体内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专性寄生虫与兼性寄生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机会致病性寄生虫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6094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ahoma"/>
                <a:ea typeface="楷体_GB2312"/>
              </a:rPr>
              <a:t>二、宿主及其种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概念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关系中被寄生虫寄生并受害的生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类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终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中间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保虫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转续宿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396252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前三种宿主为正常宿主，转续宿主为非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ahoma"/>
                <a:ea typeface="楷体_GB2312"/>
              </a:rPr>
              <a:t>常宿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三、寄生虫的生活史与感染阶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活史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完成一代生长发育繁殖的全过程及其所需要的外界环境条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感染阶段：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生活史中具有感染人体能力的发育阶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ahoma"/>
                <a:ea typeface="楷体_GB2312"/>
              </a:rPr>
              <a:t>第一节 寄生虫与宿主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对宿主的损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夺取营养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寄生虫的共性</a:t>
            </a:r>
            <a:r>
              <a:rPr b="0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械性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压迫、损伤、梗阻等多种形式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毒害作用与免疫病理损伤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由分泌物、排泄物等    所致，为寄生虫最严重的致病作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二、宿主对寄生虫的免疫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固有免疫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非特异性免疫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适应性免疫（特异性免疫）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消除性免疫    少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非消除性免疫  多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寄生虫与宿主相互作用的结果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被彻底清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带虫感染：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为寄生虫病重要的传染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二节 寄生虫与宿主的相互关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一、寄生虫病的流行环节与特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环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染源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虫者、保虫宿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播途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易感人群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寄生虫病的流行特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地方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生虫病在某一地区持续或经常发生的情况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季节性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寄生虫病的发病率与季节变换相关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人兽共患性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寄生虫病可以在人和动物之间自然地传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5345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ahoma"/>
                <a:ea typeface="楷体_GB2312"/>
              </a:rPr>
              <a:t>第三节 寄生虫病的流行与防治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4-17T17:44:0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