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DED-D558-400D-8FB0-180B1B06C8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717-B534-41AE-8170-F50DA182DB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C2D-8059-468F-9597-9E168EAB9C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6C6A-2826-4E72-97FE-50C71696B2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C3FB-0D7E-45A3-BFE9-E02464B9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049-9841-45D7-9E94-9F8BA8A6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030-5B6E-40A7-9DE3-7245B0A1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9C2-6E58-49CC-AB2D-76D52D02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F7E-5164-47A2-A370-724D0F50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DF8-5C9E-4CD8-B14A-558DDDE0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C89-B22F-4926-891A-AC7A51C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1C8-F8E2-4CDF-9344-799E84B3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F1D-4E44-4929-BC26-8B83D316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A9F-6EBD-4FB8-B505-9A7B32D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A2D-0E03-45A4-BE4B-6040A621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642-26BB-41FD-A51D-DD63A56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A09B-5341-4594-84E5-B009795F48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523880" y="3048120"/>
            <a:ext cx="63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螺杆菌属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- </a:t>
            </a: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幽门螺杆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( </a:t>
            </a:r>
            <a:r>
              <a:rPr b="1" i="1" lang="zh-CN" sz="3600" spc="-1" strike="noStrike">
                <a:solidFill>
                  <a:srgbClr val="008000"/>
                </a:solidFill>
                <a:latin typeface="Arial"/>
              </a:rPr>
              <a:t>Helicobacter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pylori </a:t>
            </a:r>
            <a:r>
              <a:rPr b="1" lang="zh-CN" sz="3600" spc="-1" strike="noStrike">
                <a:solidFill>
                  <a:srgbClr val="008000"/>
                </a:solidFill>
                <a:latin typeface="Comic Sans MS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五、其他消化道感染的细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143000"/>
            <a:ext cx="449568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革兰阴性细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呈螺旋形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4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根鞭毛，运动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菌体内富含尿素酶，其检测可辅助快速诊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1935000" cy="2175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6705720" y="3581280"/>
            <a:ext cx="154620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arry J. Marshall"/>
          <p:cNvPicPr/>
          <p:nvPr/>
        </p:nvPicPr>
        <p:blipFill>
          <a:blip r:embed="rId3"/>
          <a:stretch/>
        </p:blipFill>
        <p:spPr>
          <a:xfrm>
            <a:off x="1727280" y="3505320"/>
            <a:ext cx="1387440" cy="2203200"/>
          </a:xfrm>
          <a:prstGeom prst="rect">
            <a:avLst/>
          </a:prstGeom>
          <a:ln w="0">
            <a:noFill/>
          </a:ln>
        </p:spPr>
      </p:pic>
      <p:sp>
        <p:nvSpPr>
          <p:cNvPr id="57" name="矩形 9"/>
          <p:cNvSpPr/>
          <p:nvPr/>
        </p:nvSpPr>
        <p:spPr>
          <a:xfrm>
            <a:off x="1257120" y="583236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Barry J. Marsh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J. Robin Warren"/>
          <p:cNvPicPr/>
          <p:nvPr/>
        </p:nvPicPr>
        <p:blipFill>
          <a:blip r:embed="rId4"/>
          <a:stretch/>
        </p:blipFill>
        <p:spPr>
          <a:xfrm>
            <a:off x="3538440" y="3429000"/>
            <a:ext cx="1422360" cy="2257560"/>
          </a:xfrm>
          <a:prstGeom prst="rect">
            <a:avLst/>
          </a:prstGeom>
          <a:ln w="0">
            <a:noFill/>
          </a:ln>
        </p:spPr>
      </p:pic>
      <p:sp>
        <p:nvSpPr>
          <p:cNvPr id="59" name="矩形 13"/>
          <p:cNvSpPr/>
          <p:nvPr/>
        </p:nvSpPr>
        <p:spPr>
          <a:xfrm>
            <a:off x="3736440" y="583236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J. Robin War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1692720" y="6237360"/>
            <a:ext cx="38062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05 Nobel Prize Wi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1371600" y="5029200"/>
            <a:ext cx="754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年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O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国际癌症研究机构正式将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HP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感染列为第一类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即肯定的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致癌因子，是目前为止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唯一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被列为致癌因子的原核细胞型微生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95280" y="1676520"/>
            <a:ext cx="1650960" cy="2836440"/>
            <a:chOff x="1295280" y="1676520"/>
            <a:chExt cx="1650960" cy="2836440"/>
          </a:xfrm>
        </p:grpSpPr>
        <p:sp>
          <p:nvSpPr>
            <p:cNvPr id="64" name="矩形 3"/>
            <p:cNvSpPr/>
            <p:nvPr/>
          </p:nvSpPr>
          <p:spPr>
            <a:xfrm>
              <a:off x="1295280" y="1676520"/>
              <a:ext cx="165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4"/>
            <p:cNvSpPr/>
            <p:nvPr/>
          </p:nvSpPr>
          <p:spPr>
            <a:xfrm>
              <a:off x="1295280" y="2747880"/>
              <a:ext cx="15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溃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5"/>
            <p:cNvSpPr/>
            <p:nvPr/>
          </p:nvSpPr>
          <p:spPr>
            <a:xfrm>
              <a:off x="1550880" y="3992400"/>
              <a:ext cx="12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直接箭头连接符 7"/>
            <p:cNvCxnSpPr/>
            <p:nvPr/>
          </p:nvCxnSpPr>
          <p:spPr>
            <a:xfrm>
              <a:off x="2126160" y="2263680"/>
              <a:ext cx="1080" cy="47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直接箭头连接符 8"/>
            <p:cNvCxnSpPr/>
            <p:nvPr/>
          </p:nvCxnSpPr>
          <p:spPr>
            <a:xfrm>
              <a:off x="2126160" y="3342960"/>
              <a:ext cx="1080" cy="476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pic>
        <p:nvPicPr>
          <p:cNvPr id="69" name="Picture 12" descr=""/>
          <p:cNvPicPr/>
          <p:nvPr/>
        </p:nvPicPr>
        <p:blipFill>
          <a:blip r:embed="rId1"/>
          <a:stretch/>
        </p:blipFill>
        <p:spPr>
          <a:xfrm>
            <a:off x="3581280" y="1066680"/>
            <a:ext cx="4343400" cy="3859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533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9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7524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是主要传染源，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是慢性胃炎与消化性溃疡的主要病因，可诱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胃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73392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致癌有关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代谢产物使黏膜细胞发生转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细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片段整合于宿主细胞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3354480" cy="3622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685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19880" cy="443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755720" y="206064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446200" cy="5013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295280" y="2362320"/>
            <a:ext cx="41148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黑体"/>
              </a:rPr>
              <a:t>目前使用的快速诊断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快速脲酶分解试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子生物学方法检测幽门螺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（四）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重组脲酶幽门螺杆菌疫苗，防与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溃疡：质子泵抑制剂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+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抗生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阿莫西林、甲硝唑等）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47:3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