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FCAC-DA67-4409-9E27-24F9CE92E87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BDEC-816F-4FFF-B52E-CEE3384322CD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fld id="{1B67958A-ABC0-43BE-8359-57CCB0E030D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898-81C7-4DCD-A09F-0E632F7D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4CC-807A-4651-917E-326C8EE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CD7-FDD7-41CD-99D5-14849EEC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A36-0109-473E-AFE6-08E44DAA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7556-3BDC-404B-B9AC-0DF5B3A2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181E-CD36-4759-8066-7F67DB82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DEC3-74B9-4FD1-8299-A901CD7B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8C6B-6D6B-4D4A-977D-F6AADCDF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9E1-C1FD-469A-A007-C2925B16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3DDF-FD19-4009-99E0-5BA85B82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57A9-3ABA-40DE-A91B-AE79B1D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E10-FB82-4339-9B2C-C49249A9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8FE6-260E-4829-A51F-9E50013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2119-9CE3-4EC8-9F0F-DDF26A9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840B-E678-46F3-96F8-3BB6D579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FF2F-0EF5-4DE0-902C-0926F0AE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1458-060C-4A48-849D-AD9BE644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A7D-6663-4786-82FC-AE7E5D8D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4F5-CE23-4691-8D0B-38C9C68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45C-C2E3-4070-AAD0-D81E9AA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06C-6693-4B94-8907-014725C9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092-EA56-4F2C-82B0-9CEC3CF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42F-CF57-44B1-B911-96EECFC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4EC-AEFF-486E-8D06-4606B084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A888-097C-4A70-90E2-6C1AF0D8CC5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F0CA-3F26-4606-AD9C-31E5026793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jzcdc.com/admin/upfiles/200992076624593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）免疫性</a:t>
            </a:r>
            <a:br>
              <a:rPr sz="4000"/>
            </a:b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47560" y="251460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期短，不稳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主要是消化道黏膜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微生物学检查法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3200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试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荧光菌球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胶乳凝集试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C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杂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495680" cy="33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685800" y="838080"/>
            <a:ext cx="34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微生物学检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066680" y="205740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及时送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暂用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30%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甘油缓冲盐水保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505320" y="3581280"/>
            <a:ext cx="46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SS</a:t>
            </a:r>
            <a:r>
              <a:rPr b="1" lang="zh-CN" sz="2000" spc="-1" strike="noStrike">
                <a:solidFill>
                  <a:srgbClr val="f60000"/>
                </a:solidFill>
                <a:latin typeface="Arial"/>
                <a:ea typeface="黑体"/>
              </a:rPr>
              <a:t>平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（无色透明小菌落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581280" y="51055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清学反应（玻片凝集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657600" y="5791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毒力试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3124080" y="2971800"/>
            <a:ext cx="1760760" cy="533520"/>
          </a:xfrm>
          <a:prstGeom prst="wedgeRoundRectCallout">
            <a:avLst>
              <a:gd name="adj1" fmla="val -27185"/>
              <a:gd name="adj2" fmla="val -155060"/>
              <a:gd name="adj3" fmla="val 16667"/>
            </a:avLst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分离培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3886200" y="1447920"/>
            <a:ext cx="2843280" cy="533160"/>
          </a:xfrm>
          <a:prstGeom prst="wedgeRoundRectCallout">
            <a:avLst>
              <a:gd name="adj1" fmla="val -70435"/>
              <a:gd name="adj2" fmla="val 3362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新鲜脓血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肛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581280" y="4419720"/>
            <a:ext cx="42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黑体"/>
              </a:rPr>
              <a:t>双糖培养基（生化反应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7"/>
          <p:cNvSpPr/>
          <p:nvPr/>
        </p:nvSpPr>
        <p:spPr>
          <a:xfrm>
            <a:off x="3591000" y="3548160"/>
            <a:ext cx="0" cy="533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3591000" y="430992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3591000" y="50720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20"/>
          <p:cNvSpPr/>
          <p:nvPr/>
        </p:nvSpPr>
        <p:spPr>
          <a:xfrm>
            <a:off x="3591000" y="575784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25"/>
          <p:cNvSpPr/>
          <p:nvPr/>
        </p:nvSpPr>
        <p:spPr>
          <a:xfrm>
            <a:off x="1295280" y="3124080"/>
            <a:ext cx="1760760" cy="533520"/>
          </a:xfrm>
          <a:prstGeom prst="wedgeRoundRectCallout">
            <a:avLst>
              <a:gd name="adj1" fmla="val 47925"/>
              <a:gd name="adj2" fmla="val -160416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快速诊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6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990720" y="44197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荧光菌球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990720" y="50292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黑体"/>
              </a:rPr>
              <a:t>协同凝集试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286000"/>
            <a:ext cx="228096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五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838080" y="41911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管一灭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减毒活菌苗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发现、早隔离和早治疗，查出带菌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敏感试验指导治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</a:rPr>
              <a:t>小结：志贺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895120"/>
            <a:ext cx="40388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性状特点（分类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及所致疾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生物学检查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志贺菌的防治原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105520" y="1828800"/>
            <a:ext cx="3055680" cy="418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似的形态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单的培养条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泼的生化反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杂的抗原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弱的抵抗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的性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440" y="10663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三、志贺菌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Arial"/>
              </a:rPr>
              <a:t>Shigella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9718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志贺菌属是人类细菌性痢疾的病原菌，通称痢疾杆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447920" y="3886200"/>
            <a:ext cx="7010280" cy="1828800"/>
            <a:chOff x="1447920" y="3886200"/>
            <a:chExt cx="7010280" cy="1828800"/>
          </a:xfrm>
        </p:grpSpPr>
        <p:sp>
          <p:nvSpPr>
            <p:cNvPr id="159" name=""/>
            <p:cNvSpPr/>
            <p:nvPr/>
          </p:nvSpPr>
          <p:spPr>
            <a:xfrm>
              <a:off x="2133720" y="4038480"/>
              <a:ext cx="304560" cy="16765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38280" y="3886200"/>
              <a:ext cx="2210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痢疾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福氏志贺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鲍氏志贺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宋内志贺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7920" y="3962520"/>
              <a:ext cx="838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四个菌群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3886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----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致病力最强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72000" y="4572000"/>
              <a:ext cx="7621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572000" y="5105520"/>
              <a:ext cx="7621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57800" y="48006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我国感染最常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1219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一）生物学性状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5257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形态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鞭毛，无荚膜， 有菌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1667160" cy="2819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752480" y="4114800"/>
            <a:ext cx="2362320" cy="21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267080" y="4191120"/>
            <a:ext cx="2286000" cy="20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72464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及生化反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营养要求不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分解乳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培养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克氏双糖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248520" y="2133720"/>
          <a:ext cx="180180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18018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抗原构造及分类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原组成，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抗原为分类依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种        群        型                   亚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痢疾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          8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福氏志贺菌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      1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变型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4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鲍氏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             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宋内志贺菌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819520"/>
            <a:ext cx="72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32004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525780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其他肠道杆菌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酸和一般消毒剂敏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抵抗力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81952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侵袭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毒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286000"/>
            <a:ext cx="5638680" cy="38638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菌毛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，可黏附于回肠末端和结肠黏膜的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皮细胞。细菌侵入血流罕见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内毒素：所有毒株均有强烈的内毒素。内毒素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用于肠黏膜，使其通透性增高，进一步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促进对内毒素的吸收，引起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发热、神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障碍、甚至中毒性休克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等一系列症状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还可导致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直肠括约肌痉挛、腹痛、里急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黑体"/>
              </a:rPr>
              <a:t>              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后重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外毒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shiga toxin,S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：可引起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细胞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变，亦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ver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毒素，具有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肠毒素性、细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毒性、神经毒性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362320" cy="221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85800" y="1143000"/>
            <a:ext cx="563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所致疾病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33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菌性痢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和带菌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潜伏期数小时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热、腹痛、腹泻、里急后重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黏液脓血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83544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19920" y="685800"/>
            <a:ext cx="294948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23880" y="5486400"/>
            <a:ext cx="2743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多见于儿童急性感染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2590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病急，发热、腹痛、里急后重、腹泻、有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脓血黏液便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没有呕吐、恶心现象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038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以上，常反复发作，呈慢性过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99520" y="1981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急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3505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慢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7480" y="50292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中毒性菌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143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分类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partment of Microbiology, Harbin Medical University</a:t>
            </a: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43:28Z</dcterms:modified>
  <cp:revision>720</cp:revision>
  <dc:subject/>
  <dc:title>Microbiology includes:</dc:title>
</cp:coreProperties>
</file>