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AC6-ADDB-40D6-9272-CAF7B13C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AA3-FD3E-4A7B-B043-18FA23E7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FF6C-74CE-48A9-B337-B5A3313C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4E9-3B33-449B-BF79-853E380C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8B6-515E-4DAA-B422-9C6107B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803-7B4F-4B71-B6F2-C43C1E1F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832-FA02-403F-9DB5-BE0B2F20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96C-A50A-463C-830D-60FEB0DC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221-BCC3-4FBA-B914-BDBBFDA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B4F-027B-46D9-98A0-59230F51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9FB-DBD3-4DE1-A1AD-5CC57CE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289-1ADC-4E22-96A0-1A3A3C1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F19-C94C-4980-8024-93018985B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44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2340000" y="206064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114300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四）防治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8600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性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离病人、检查带菌者、预防性投药，室内通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脑疫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接种两次，间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群脑膜炎球菌多糖抗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制备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霉素、磺胺类药大剂量治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5" name=""/>
          <p:cNvSpPr/>
          <p:nvPr/>
        </p:nvSpPr>
        <p:spPr>
          <a:xfrm>
            <a:off x="6143400" y="5181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膜炎疫苗接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15238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7920" y="3048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的生物学性状、致病物质及所致疾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1066680"/>
            <a:ext cx="511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脑膜炎奈瑟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19720" y="1905120"/>
            <a:ext cx="4267080" cy="4240080"/>
            <a:chOff x="4419720" y="1905120"/>
            <a:chExt cx="4267080" cy="4240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4419720" y="2666880"/>
              <a:ext cx="4267080" cy="347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5334120" y="1905120"/>
              <a:ext cx="3352680" cy="1295280"/>
              <a:chOff x="5334120" y="1905120"/>
              <a:chExt cx="3352680" cy="1295280"/>
            </a:xfrm>
          </p:grpSpPr>
          <p:sp>
            <p:nvSpPr>
              <p:cNvPr id="67" name=""/>
              <p:cNvSpPr/>
              <p:nvPr/>
            </p:nvSpPr>
            <p:spPr>
              <a:xfrm>
                <a:off x="68580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943600" y="22096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34120" y="190512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硬脑膜  软脑膜  脑脊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96440" y="220968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1219320" y="312408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脑膜炎奈瑟菌简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脑膜炎球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病原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14600" y="3092400"/>
            <a:ext cx="4114800" cy="3765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9907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一）生物学特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152520" cy="34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11880" y="1295280"/>
            <a:ext cx="729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性粒细胞内的脑膜炎球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895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肾形或豆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双排列，凹面相对，革兰染色阴性，有荚膜和菌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8862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。营养要求高。最常用的培养基是巧克力色培养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露滴状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生化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产生自溶酶，人工培养时若不及时移种，数日后菌体自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066680"/>
            <a:ext cx="4800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主要菌体表面抗原构造（四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荚膜多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群特异性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血清群），我国流行的是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核蛋白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脂寡糖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常变异，相应抗体不能防止再感染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外膜蛋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外膜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PI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吸附易感细菌的蛋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925040" cy="4329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66680" y="1066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抗原构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55240" y="1287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9384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3560" y="1671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740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61080" y="1306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46320" y="20019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5524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4840" y="31924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55240" y="35514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9040" y="2470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7760" y="28353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92160" y="31021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9400" y="2854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1120" y="3147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1720" y="39258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9216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65240" y="401796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92160" y="431172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4840" y="478800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696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65520" y="46958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2160" y="554832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84240" y="592308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96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03520" y="583236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3440" y="637236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3440" y="6510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990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与免疫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44800">
            <a:off x="5562360" y="1295280"/>
            <a:ext cx="2514600" cy="2133720"/>
          </a:xfrm>
          <a:prstGeom prst="cloudCallout">
            <a:avLst>
              <a:gd name="adj1" fmla="val -6888"/>
              <a:gd name="adj2" fmla="val 78828"/>
            </a:avLst>
          </a:prstGeom>
          <a:gradFill rotWithShape="0">
            <a:gsLst>
              <a:gs pos="0">
                <a:srgbClr val="ffffcc"/>
              </a:gs>
              <a:gs pos="100000">
                <a:srgbClr val="99cc00"/>
              </a:gs>
            </a:gsLst>
            <a:lin ang="30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脑膜刺激征：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剧烈头痛、喷射性呕吐、颈项僵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1337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物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荚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菌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毒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致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行性脑脊髓膜炎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流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类是唯一的易感宿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月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年龄组婴儿免疫力最低，是易感人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2438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脑膜炎奈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228600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743200"/>
            <a:ext cx="182880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鼻咽腔繁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352680"/>
            <a:ext cx="0" cy="990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419720"/>
            <a:ext cx="152388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繁殖入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362320" y="2437920"/>
            <a:ext cx="1981080" cy="1600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905120"/>
            <a:ext cx="167616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败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2133720"/>
            <a:ext cx="68580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1905120"/>
            <a:ext cx="2210040" cy="45972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枢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侵犯蛛网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2971800"/>
            <a:ext cx="0" cy="5335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657600"/>
            <a:ext cx="2743200" cy="58140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发型脑膜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微循环衰竭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内毒素休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脑膜炎奈瑟菌的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947" t="6163" r="1471" b="0"/>
          <a:stretch/>
        </p:blipFill>
        <p:spPr>
          <a:xfrm>
            <a:off x="5257800" y="1371600"/>
            <a:ext cx="3200400" cy="203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4120" y="3352680"/>
            <a:ext cx="3200400" cy="3213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21337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接涂片镜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镜下见到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Arial"/>
              </a:rPr>
              <a:t>中性粒细胞内、外有革兰阴性双球菌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可作出初步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培养与鉴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巧克力色血琼脂平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速诊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对流免疫电泳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S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同凝集试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6:33:3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